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4.jpeg" ContentType="image/jpeg"/>
  <Override PartName="/ppt/media/image13.wmf" ContentType="image/x-wmf"/>
  <Override PartName="/ppt/media/image7.wmf" ContentType="image/x-wmf"/>
  <Override PartName="/ppt/media/image11.wmf" ContentType="image/x-wmf"/>
  <Override PartName="/ppt/media/image19.wmf" ContentType="image/x-wmf"/>
  <Override PartName="/ppt/media/image17.gif" ContentType="image/gif"/>
  <Override PartName="/ppt/media/image2.jpeg" ContentType="image/jpeg"/>
  <Override PartName="/ppt/media/image16.wmf" ContentType="image/x-wmf"/>
  <Override PartName="/ppt/media/image14.wmf" ContentType="image/x-wmf"/>
  <Override PartName="/ppt/media/image9.wmf" ContentType="image/x-wmf"/>
  <Override PartName="/ppt/media/image15.wmf" ContentType="image/x-wmf"/>
  <Override PartName="/ppt/media/image1.jpeg" ContentType="image/jpeg"/>
  <Override PartName="/ppt/media/image3.jpeg" ContentType="image/jpeg"/>
  <Override PartName="/ppt/media/image5.jpeg" ContentType="image/jpeg"/>
  <Override PartName="/ppt/media/image18.wmf" ContentType="image/x-wmf"/>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CC5F250-604A-471F-BD29-BC5ED1595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969920" y="663480"/>
            <a:ext cx="2916360" cy="2187720"/>
          </a:xfrm>
          <a:prstGeom prst="rect">
            <a:avLst/>
          </a:prstGeom>
          <a:ln w="0">
            <a:noFill/>
          </a:ln>
        </p:spPr>
      </p:sp>
      <p:sp>
        <p:nvSpPr>
          <p:cNvPr id="159"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ing is a process, as well as a relationship, between persons. Contrary to what some people believe, counseling is not concentrated advice-giving.  The aim of the counselor is usually to assist the person or persons (client or clients) in realizing a change in behavior or attitude, or to seek achievement of goals.  Often there are varieties of problems for which the counselee may seek to find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rms of counseling include the teaching of social skills, effective communication, spiritual guidance, decision-making, and career choices.  Counseling may sometimes be needed to aid one in coping with a crisis.  Other types of counseling include premarital and marital counseling; grief and loss (divorce, death or amputation); domestic violence and other types of abuse; special counseling situations like terminal illness (death and dying); as well as counseling of emotionally and mentally disturbed individuals.   Counseling could be short-term (brief counseling) or long-term.</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095560" y="685800"/>
            <a:ext cx="3048120" cy="2286000"/>
          </a:xfrm>
          <a:prstGeom prst="rect">
            <a:avLst/>
          </a:prstGeom>
          <a:ln w="0">
            <a:noFill/>
          </a:ln>
        </p:spPr>
      </p:sp>
      <p:sp>
        <p:nvSpPr>
          <p:cNvPr id="17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havior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 therapy is the most studied and most familiar of all the counseling approaches.  There are a number of key figures associated with this theory:  Arnold Lazarus, Albert Bandura, B.F. Skinner, M.J. Mahoney, David L. Watson, A.E. Kazdin.  Behavior therapy uses many action-oriented methods to help people take steps to change what they are doing and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s that are frequently used in this therapy are </a:t>
            </a:r>
            <a:r>
              <a:rPr b="0" i="1" lang="en-US" sz="1200" spc="-1" strike="noStrike">
                <a:solidFill>
                  <a:srgbClr val="000000"/>
                </a:solidFill>
                <a:latin typeface="Times New Roman"/>
              </a:rPr>
              <a:t>behavior modification </a:t>
            </a:r>
            <a:r>
              <a:rPr b="0" lang="en-US" sz="1200" spc="-1" strike="noStrike">
                <a:solidFill>
                  <a:srgbClr val="000000"/>
                </a:solidFill>
                <a:latin typeface="Times New Roman"/>
              </a:rPr>
              <a:t>and </a:t>
            </a:r>
            <a:r>
              <a:rPr b="0" i="1" lang="en-US" sz="1200" spc="-1" strike="noStrike">
                <a:solidFill>
                  <a:srgbClr val="000000"/>
                </a:solidFill>
                <a:latin typeface="Times New Roman"/>
              </a:rPr>
              <a:t>behavior therapy.</a:t>
            </a:r>
            <a:r>
              <a:rPr b="0" lang="en-US" sz="1200" spc="-1" strike="noStrike">
                <a:solidFill>
                  <a:srgbClr val="000000"/>
                </a:solidFill>
                <a:latin typeface="Times New Roman"/>
              </a:rPr>
              <a:t>  The focus is on overt behavior, precision in specifying the goals of treatment, and the development of specific treatment plans.  The therapist is active and directive and functions as a teacher or trainer in helping clients to work on improving behavior.</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behavior therapy with the other approaches you have studied so far. What are some of the distinct advantages, disadvantages, and limita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84400" y="685800"/>
            <a:ext cx="3336840" cy="2503440"/>
          </a:xfrm>
          <a:prstGeom prst="rect">
            <a:avLst/>
          </a:prstGeom>
          <a:ln w="0">
            <a:noFill/>
          </a:ln>
        </p:spPr>
      </p:sp>
      <p:sp>
        <p:nvSpPr>
          <p:cNvPr id="179"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motive Therapy (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rt Ellis (b.1913) is the founder of Rational-Emotive Therapy.  This therapy is a form of cognitively-oriented behavioral therapy and is based on the assumption that human beings are born with a potential for both rational or straight thinking, and irrational or crooked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for granted that people are fallible, RET attempts to help them accept themselves as people who would continue to make mistakes, yet at the same time learn to live with themselves and be at peace with themselves. RET emphasizes thinking, judging, deciding, and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is stresses that people choose to be disturbed rather than be conditioned by external forces.  It is the tendency of people to invent disturbing beliefs and keep themselves disturbed by these beliefs.  RET also assumes that people have the capacity to change their cognitive, emotive, and behavioral processes; they can choose to react differently from their usual patterns and refuse to become upset, and train themselves so that their life pattern will be one of minimal disturb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xperienced that by repeating certain ideas to yourself, you began to believe them?  Were those ideas pleasant or unpleasa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22560" y="609480"/>
            <a:ext cx="3336840" cy="2503440"/>
          </a:xfrm>
          <a:prstGeom prst="rect">
            <a:avLst/>
          </a:prstGeom>
          <a:ln w="0">
            <a:noFill/>
          </a:ln>
        </p:spPr>
      </p:sp>
      <p:sp>
        <p:nvSpPr>
          <p:cNvPr id="181"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ity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Glasser (b.1925) founded Reality Therapy.  This therapy is a short-term approach with a focus on the present.  The focus is on a person’s strength and stresses that a client can learn more realistic behavior and therefore achieve success.  Reality therapy assumes that we choose our behavior and are therefore responsible not only for what we are doing but also for how we think and f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of the counselor who employs this type of therapy is to establish an involvement with the client, which encourages him or her to assess the current style of living.  By a process of honest self-examination, it is believed that the client can improve his or her qualit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lf-examination, clients decide on specific changes desired, plans are formulated and a commitment to follow through is established.  A contract is often used.  When the contract is fulfilled, therapy is ter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you do in a situation with a client who consistently refuses to make any plans to change?  What would you do about clients who make plans to change but do not carry them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nseling approaches offer insights and a background to counseling.  No approach is complete in itself.  When placed in perspective, these approaches can contribute to helping people in distress. Many use an integrative approach.  From time to time, the term </a:t>
            </a:r>
            <a:r>
              <a:rPr b="0" i="1" lang="en-US" sz="1200" spc="-1" strike="noStrike">
                <a:solidFill>
                  <a:srgbClr val="000000"/>
                </a:solidFill>
                <a:latin typeface="Times New Roman"/>
              </a:rPr>
              <a:t>eclectic counseling </a:t>
            </a:r>
            <a:r>
              <a:rPr b="0" lang="en-US" sz="1200" spc="-1" strike="noStrike">
                <a:solidFill>
                  <a:srgbClr val="000000"/>
                </a:solidFill>
                <a:latin typeface="Times New Roman"/>
              </a:rPr>
              <a:t>will be encountered.  By </a:t>
            </a:r>
            <a:r>
              <a:rPr b="0" i="1" lang="en-US" sz="1200" spc="-1" strike="noStrike">
                <a:solidFill>
                  <a:srgbClr val="000000"/>
                </a:solidFill>
                <a:latin typeface="Times New Roman"/>
              </a:rPr>
              <a:t>eclectic counseling</a:t>
            </a:r>
            <a:r>
              <a:rPr b="0" lang="en-US" sz="1200" spc="-1" strike="noStrike">
                <a:solidFill>
                  <a:srgbClr val="000000"/>
                </a:solidFill>
                <a:latin typeface="Times New Roman"/>
              </a:rPr>
              <a:t>, we mean selecting concepts and methods from a variety of theories or systems. According to Williamson, “Counseling… may be thought of as embracing a wide variety of techniques, from which repertoire the effective counselor selects…those which are relevant and appropriate to the nature of the client’s problem and to other features of the situation…” (Williamson, E.g. quoted in </a:t>
            </a:r>
            <a:r>
              <a:rPr b="0" i="1" lang="en-US" sz="1200" spc="-1" strike="noStrike">
                <a:solidFill>
                  <a:srgbClr val="000000"/>
                </a:solidFill>
                <a:latin typeface="Times New Roman"/>
              </a:rPr>
              <a:t>Counseling: An Introduction, </a:t>
            </a:r>
            <a:r>
              <a:rPr b="0" lang="en-U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32120" y="685800"/>
            <a:ext cx="3336840" cy="2503440"/>
          </a:xfrm>
          <a:prstGeom prst="rect">
            <a:avLst/>
          </a:prstGeom>
          <a:ln w="0">
            <a:noFill/>
          </a:ln>
        </p:spPr>
      </p:sp>
      <p:sp>
        <p:nvSpPr>
          <p:cNvPr id="183"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go into counseling for various reasons.  Some clients are ordered by the court.   Prisoners or other offenders are sent so that they might receive help.  Potential divorcees are sent for marital counseling by the court also. Others, upon examining their situations, feel the need for help or an improved life-style. Still some are referred for academic or vocational counseling.  Others are driven by a crisi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lients have expectations of varying levels.  Some clients expect rapid help and change.  Others go into counseling with a mindset that nothing will make a difference in their outlook and behavior.  They go in order to satisfy a requirement or to stifle a potential feeling of guil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difficult clients to work with is the reluctant client.  The reluctant client is one who does not want to receive counseling but finds him or herself in the counseling situation.  The conscious resolution not to cooperate makes change and results difficult to achieve.  The new counselor can sometimes feel inadequate in the presence of resistance.  Resistance need not be always viewed as negative.  According to Dyer and Vriend, “Resistance is an unavoidable process in every effective treatment, for that part of the personality that has an interest in the survival of the pathology actively protests each time therapy comes close to inducing a successful change.”(p.94,95).</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uctance may sometimes manifest itself in hostility of the client, absenteeism, non-cooperation, strained civility, and other creative forms.  Some clients are reluctant because of suspicion.  Others are reluctant because they do not want to change.  Still others are afraid to admit to any possible flaws they might hav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tegies for Dealing with the Reluctant Clien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the temptation to feel rejected if a client does not cooperate with the  counseling process. It is important not to allow feelings of personal rejection to surface.  The following are some suggestions for dealing with reluctance on the part of 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se to consider yourself the target of the reluctance.  This will affect your approach to counseling 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confidence and do not be intimidat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ignore the feelings of the client.  Try to find out why he or she is reluctant.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031840" y="685800"/>
            <a:ext cx="3251520" cy="2438280"/>
          </a:xfrm>
          <a:prstGeom prst="rect">
            <a:avLst/>
          </a:prstGeom>
          <a:ln w="0">
            <a:noFill/>
          </a:ln>
        </p:spPr>
      </p:sp>
      <p:sp>
        <p:nvSpPr>
          <p:cNvPr id="185"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interpret the reasons for the reluctance and use these as an opportunity for teaching the client greater self-understan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client that counseling helps one to deal with feelings even if they are uncomfortab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xploration of the client’s behavior can help reduce the reluct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straight to work on  eliminating barriers.  Ask the client, “Are you ready for us to do some things together to make your current life a happier one?”  Another approach is “Can we set up a goal for you to tell everything about yourself that is really disturbing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ze that you will encounter many reluctant clients.  The test of your strength is in keeping calm and showing that you will not take the responsibility of doing it all by yourself.  You are committed to helping him or her, but only if you are allowed to. Above all, be professional in your behavior at all ti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677960" y="609480"/>
            <a:ext cx="3844800" cy="2884680"/>
          </a:xfrm>
          <a:prstGeom prst="rect">
            <a:avLst/>
          </a:prstGeom>
          <a:ln w="0">
            <a:noFill/>
          </a:ln>
        </p:spPr>
      </p:sp>
      <p:sp>
        <p:nvSpPr>
          <p:cNvPr id="187" name="PlaceHolder 2"/>
          <p:cNvSpPr>
            <a:spLocks noGrp="1"/>
          </p:cNvSpPr>
          <p:nvPr>
            <p:ph type="body"/>
          </p:nvPr>
        </p:nvSpPr>
        <p:spPr>
          <a:xfrm>
            <a:off x="701280" y="3733560"/>
            <a:ext cx="5607000" cy="4865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FILE OF A COUNSE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oes not become an effective counselor by merely being a good person.  There are some characteristics that all counselors are expected to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n identity.  </a:t>
            </a:r>
            <a:r>
              <a:rPr b="0" lang="en-US" sz="1200" spc="-1" strike="noStrike">
                <a:solidFill>
                  <a:srgbClr val="000000"/>
                </a:solidFill>
                <a:latin typeface="Times New Roman"/>
              </a:rPr>
              <a:t>A counselor must know who he or she is.  Know what you want out of life and what you believe.  Stick to your values and Christian principles.  A wavering personality is not able to help others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eciate the worth God has placed upon you.  </a:t>
            </a:r>
            <a:r>
              <a:rPr b="0" lang="en-US" sz="1200" spc="-1" strike="noStrike">
                <a:solidFill>
                  <a:srgbClr val="000000"/>
                </a:solidFill>
                <a:latin typeface="Times New Roman"/>
              </a:rPr>
              <a:t>A counselor who recognizes that he or she is “of more value than many sparrows” is an asset to the cause.  With your name engraved in the palm of God’s hand, how could you not respect and appreciate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open to change.</a:t>
            </a:r>
            <a:r>
              <a:rPr b="0" lang="en-US" sz="1200" spc="-1" strike="noStrike">
                <a:solidFill>
                  <a:srgbClr val="000000"/>
                </a:solidFill>
                <a:latin typeface="Times New Roman"/>
              </a:rPr>
              <a:t>  Do not be satisfied with your present state.  Strive to learn more and be an investigator.  Take risks and find out new methods.  There is a wide world of opportunities and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 your own counseling style.  </a:t>
            </a:r>
            <a:r>
              <a:rPr b="0" lang="en-US" sz="1200" spc="-1" strike="noStrike">
                <a:solidFill>
                  <a:srgbClr val="000000"/>
                </a:solidFill>
                <a:latin typeface="Times New Roman"/>
              </a:rPr>
              <a:t>Use your strengths</a:t>
            </a:r>
            <a:r>
              <a:rPr b="1" lang="en-US" sz="1200" spc="-1" strike="noStrike">
                <a:solidFill>
                  <a:srgbClr val="000000"/>
                </a:solidFill>
                <a:latin typeface="Times New Roman"/>
              </a:rPr>
              <a:t> </a:t>
            </a:r>
            <a:r>
              <a:rPr b="0" lang="en-US" sz="1200" spc="-1" strike="noStrike">
                <a:solidFill>
                  <a:srgbClr val="000000"/>
                </a:solidFill>
                <a:latin typeface="Times New Roman"/>
              </a:rPr>
              <a:t>and skills to develop your own counseling style.  Study appropriate material thoroughly.  Read and view videos.  Always, remember to be the best counselor you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open, sincere, and honest.  </a:t>
            </a:r>
            <a:r>
              <a:rPr b="0" lang="en-US" sz="1200" spc="-1" strike="noStrike">
                <a:solidFill>
                  <a:srgbClr val="000000"/>
                </a:solidFill>
                <a:latin typeface="Times New Roman"/>
              </a:rPr>
              <a:t>People recognize and hate insincerity.  Let your words and actions coincide.  Operate with integ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 your sense of humor.  </a:t>
            </a:r>
            <a:r>
              <a:rPr b="0" lang="en-US" sz="1200" spc="-1" strike="noStrike">
                <a:solidFill>
                  <a:srgbClr val="000000"/>
                </a:solidFill>
                <a:latin typeface="Times New Roman"/>
              </a:rPr>
              <a:t>Laugh, especially at yourself.   It helps you to put things in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ensitive to people’s culture.  </a:t>
            </a:r>
            <a:r>
              <a:rPr b="0" lang="en-US" sz="1200" spc="-1" strike="noStrike">
                <a:solidFill>
                  <a:srgbClr val="000000"/>
                </a:solidFill>
                <a:latin typeface="Times New Roman"/>
              </a:rPr>
              <a:t>Note that people are different and that is all right.  Respect and have a high level of tolerance for people who are different from you.</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830240" y="609480"/>
            <a:ext cx="3540240" cy="2656080"/>
          </a:xfrm>
          <a:prstGeom prst="rect">
            <a:avLst/>
          </a:prstGeom>
          <a:ln w="0">
            <a:noFill/>
          </a:ln>
        </p:spPr>
      </p:sp>
      <p:sp>
        <p:nvSpPr>
          <p:cNvPr id="189" name="PlaceHolder 2"/>
          <p:cNvSpPr>
            <a:spLocks noGrp="1"/>
          </p:cNvSpPr>
          <p:nvPr>
            <p:ph type="body"/>
          </p:nvPr>
        </p:nvSpPr>
        <p:spPr>
          <a:xfrm>
            <a:off x="701280" y="3657240"/>
            <a:ext cx="5607000" cy="494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an optimist.  </a:t>
            </a:r>
            <a:r>
              <a:rPr b="0" lang="en-US" sz="1200" spc="-1" strike="noStrike">
                <a:solidFill>
                  <a:srgbClr val="000000"/>
                </a:solidFill>
                <a:latin typeface="Times New Roman"/>
              </a:rPr>
              <a:t>No one likes to be around a pessimist.  We are sustained by the hope that we believe in.  With Christ in our hearts, hope is alway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joy life.  </a:t>
            </a:r>
            <a:r>
              <a:rPr b="0" lang="en-US" sz="1200" spc="-1" strike="noStrike">
                <a:solidFill>
                  <a:srgbClr val="000000"/>
                </a:solidFill>
                <a:latin typeface="Times New Roman"/>
              </a:rPr>
              <a:t>Learn to leave the problems behind and enjoy your own life.  Do not perpetually carry around the cares and problems of clients.  You need to experience your own periods of refreshing.  This will make you more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 caring spirit.  </a:t>
            </a:r>
            <a:r>
              <a:rPr b="0" lang="en-US" sz="1200" spc="-1" strike="noStrike">
                <a:solidFill>
                  <a:srgbClr val="000000"/>
                </a:solidFill>
                <a:latin typeface="Times New Roman"/>
              </a:rPr>
              <a:t>Show a sincere interest in others.  This concern must be based on respect, care, trust, and a valuing of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 reputation for confidentiality.  </a:t>
            </a:r>
            <a:r>
              <a:rPr b="0" lang="en-US" sz="1200" spc="-1" strike="noStrike">
                <a:solidFill>
                  <a:srgbClr val="000000"/>
                </a:solidFill>
                <a:latin typeface="Times New Roman"/>
              </a:rPr>
              <a:t>A counselor must practice to have tightly-closed lips.  No one wants a counselor who spreads information.  A counselor’s #1 quality is confidentiality.  Clients like the assurance that their issues are not being discussed casually with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ensitive to human relationships.  </a:t>
            </a:r>
            <a:r>
              <a:rPr b="0" lang="en-US" sz="1200" spc="-1" strike="noStrike">
                <a:solidFill>
                  <a:srgbClr val="000000"/>
                </a:solidFill>
                <a:latin typeface="Times New Roman"/>
              </a:rPr>
              <a:t>Try to understand peopl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n objective attitude.  </a:t>
            </a:r>
            <a:r>
              <a:rPr b="0" lang="en-US" sz="1200" spc="-1" strike="noStrike">
                <a:solidFill>
                  <a:srgbClr val="000000"/>
                </a:solidFill>
                <a:latin typeface="Times New Roman"/>
              </a:rPr>
              <a:t>Learn to become emotionally detached.  Also do not allow yourself to become overly sympathe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not display a passion to reform everyone.  </a:t>
            </a:r>
            <a:r>
              <a:rPr b="0" lang="en-US" sz="1200" spc="-1" strike="noStrike">
                <a:solidFill>
                  <a:srgbClr val="000000"/>
                </a:solidFill>
                <a:latin typeface="Times New Roman"/>
              </a:rPr>
              <a:t>Some persons are on a campaign to change the world.  This attitude could turn people away from yo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2325600" y="685800"/>
            <a:ext cx="3235320" cy="2427120"/>
          </a:xfrm>
          <a:prstGeom prst="rect">
            <a:avLst/>
          </a:prstGeom>
          <a:ln w="0">
            <a:noFill/>
          </a:ln>
        </p:spPr>
      </p:sp>
      <p:sp>
        <p:nvSpPr>
          <p:cNvPr id="191"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natural.  </a:t>
            </a:r>
            <a:r>
              <a:rPr b="0" lang="en-US" sz="1200" spc="-1" strike="noStrike">
                <a:solidFill>
                  <a:srgbClr val="000000"/>
                </a:solidFill>
                <a:latin typeface="Times New Roman"/>
              </a:rPr>
              <a:t>People are attracted to people who are simple and easy to associate with.  Clients like to feel comfor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confidence in people and in their potential for growth.</a:t>
            </a:r>
            <a:r>
              <a:rPr b="0" lang="en-US" sz="1200" spc="-1" strike="noStrike">
                <a:solidFill>
                  <a:srgbClr val="000000"/>
                </a:solidFill>
                <a:latin typeface="Times New Roman"/>
              </a:rPr>
              <a:t>  People like to be told, “You can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a listener.  </a:t>
            </a:r>
            <a:r>
              <a:rPr b="0" lang="en-US" sz="1200" spc="-1" strike="noStrike">
                <a:solidFill>
                  <a:srgbClr val="000000"/>
                </a:solidFill>
                <a:latin typeface="Times New Roman"/>
              </a:rPr>
              <a:t>One cannot counsel effectively if he/she does not listen.  Listen to what is being said and what is implied.  Do not put words into the client’s mouth or try to anticipate him or her.  Listen wholeheartedly, without fidgeting around with papers and other distracting material.  Do not be afraid of silence.  Sometimes the client will speak haltingly and make long pauses.  Be patient and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e boundaries.  </a:t>
            </a:r>
            <a:r>
              <a:rPr b="0" lang="en-US" sz="1200" spc="-1" strike="noStrike">
                <a:solidFill>
                  <a:srgbClr val="000000"/>
                </a:solidFill>
                <a:latin typeface="Times New Roman"/>
              </a:rPr>
              <a:t>Keep a professional distance.  Once you enter into a counseling relationship, your behavior must be strictly profes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God as your Guide.  </a:t>
            </a:r>
            <a:r>
              <a:rPr b="0" lang="en-US" sz="1200" spc="-1" strike="noStrike">
                <a:solidFill>
                  <a:srgbClr val="000000"/>
                </a:solidFill>
                <a:latin typeface="Times New Roman"/>
              </a:rPr>
              <a:t>Claim the promise that God has given you.  He has promised you wisdom.  Just ask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456000" y="228600"/>
            <a:ext cx="2727360" cy="2046240"/>
          </a:xfrm>
          <a:prstGeom prst="rect">
            <a:avLst/>
          </a:prstGeom>
          <a:ln w="0">
            <a:noFill/>
          </a:ln>
        </p:spPr>
      </p:sp>
      <p:sp>
        <p:nvSpPr>
          <p:cNvPr id="193" name="PlaceHolder 2"/>
          <p:cNvSpPr>
            <a:spLocks noGrp="1"/>
          </p:cNvSpPr>
          <p:nvPr>
            <p:ph type="body"/>
          </p:nvPr>
        </p:nvSpPr>
        <p:spPr>
          <a:xfrm>
            <a:off x="533160" y="2057400"/>
            <a:ext cx="6019560" cy="67816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MPLE COUNSELING TECHNIQU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Gary Collins, a competent counseling psychologist, remarks that often one who is faced with the counseling situation sometimes experiences “deep feelings of frustration, uncertainty, and even a sense of personal uselessness… when called upon to help.”  These feelings are natural.  There are different typ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nseling and the knowledge of some counseling techniques can be of great help to the lay counsel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Counsel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all look at some common types of counseling.  With the exception of depth counseling </a:t>
            </a:r>
            <a:r>
              <a:rPr b="1" lang="en-US" sz="1200" spc="-1" strike="noStrike">
                <a:solidFill>
                  <a:srgbClr val="000000"/>
                </a:solidFill>
                <a:latin typeface="Times New Roman"/>
              </a:rPr>
              <a:t>which should be used only by trained professionals, </a:t>
            </a:r>
            <a:r>
              <a:rPr b="0" lang="en-US" sz="1200" spc="-1" strike="noStrike">
                <a:solidFill>
                  <a:srgbClr val="000000"/>
                </a:solidFill>
                <a:latin typeface="Times New Roman"/>
              </a:rPr>
              <a:t>the lay counselor, with some training could be of help in these are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uppor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most often used with people who have difficulty standing alone amid their problems.  At frequent intervals these persons may need sustained guidance.  In supportive counseling, the goal is not to create a chronic dependency upon the counselor, but to give temporary support and help the person to gain strength and the resources to cop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nfrontational Counseling</a:t>
            </a:r>
            <a:r>
              <a:rPr b="0" i="1" lang="en-US" sz="1200" spc="-1" strike="noStrike">
                <a:solidFill>
                  <a:srgbClr val="000000"/>
                </a:solidFill>
                <a:latin typeface="Times New Roman"/>
              </a:rPr>
              <a:t> </a:t>
            </a:r>
            <a:r>
              <a:rPr b="0" lang="en-US" sz="1200" spc="-1" strike="noStrike">
                <a:solidFill>
                  <a:srgbClr val="000000"/>
                </a:solidFill>
                <a:latin typeface="Times New Roman"/>
              </a:rPr>
              <a:t>seeks to point out to the client his or her actions.  The counselor guides the counselee into seeing what misdeeds were committed and to realize the hurt that might have been caused to others.  The idea is that hiding one’s immoral actions only creates guilt, frustration, and anxiety.  As a Christian, the counselor must help the client to confess, forsake his sins, and accept the forgiveness of a loving Savi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duca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focuses on teaching the client</a:t>
            </a:r>
            <a:r>
              <a:rPr b="0" i="1" lang="en-US" sz="1200" spc="-1" strike="noStrike">
                <a:solidFill>
                  <a:srgbClr val="000000"/>
                </a:solidFill>
                <a:latin typeface="Times New Roman"/>
              </a:rPr>
              <a:t>.  </a:t>
            </a:r>
            <a:r>
              <a:rPr b="0" lang="en-US" sz="1200" spc="-1" strike="noStrike">
                <a:solidFill>
                  <a:srgbClr val="000000"/>
                </a:solidFill>
                <a:latin typeface="Times New Roman"/>
              </a:rPr>
              <a:t>Undesirable learned behavior may have to be unlearned.  The counselor in this case is a teacher.  People may come to the counselor with questions on social issues, religious issues, or even career problems.  Often some clients may need help in making certain critical decis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even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used to stop problems before they start or to prevent things from getting worse. Areas like “How to Keep Healthy,” “How to Prepare for Retirement,” or sessions in premarital counseling are examples of preventive counsel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piritual Counseling</a:t>
            </a:r>
            <a:r>
              <a:rPr b="0" lang="en-US" sz="1200" spc="-1" strike="noStrike">
                <a:solidFill>
                  <a:srgbClr val="000000"/>
                </a:solidFill>
                <a:latin typeface="Times New Roman"/>
              </a:rPr>
              <a:t> is a great necessity, and the Christian often seeks the opportunity to show persons the way to Christ.  Sometimes there will be persons who want to find spiritual answers.  People may be seeking for a purpose in life.  This is a chance for the Christian counselor to lead them to the Bible and to pray with them.  Sometimes, through spiritual counseling the counselor may discover that the client also has some psychological issues that need to be dealt wi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epth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a long-term relationship in which deep-seated problems of the counselee are uncovered and dealt with in detail.  The counseling process is extended and demands the skills of a </a:t>
            </a:r>
            <a:r>
              <a:rPr b="0" i="1" lang="en-US" sz="1200" spc="-1" strike="noStrike">
                <a:solidFill>
                  <a:srgbClr val="000000"/>
                </a:solidFill>
                <a:latin typeface="Times New Roman"/>
              </a:rPr>
              <a:t>counseling professional. </a:t>
            </a:r>
            <a:r>
              <a:rPr b="0" lang="en-US" sz="1200" spc="-1" strike="noStrike">
                <a:solidFill>
                  <a:srgbClr val="000000"/>
                </a:solidFill>
                <a:latin typeface="Times New Roman"/>
              </a:rPr>
              <a:t>This type of counseling is not for the layperson. </a:t>
            </a:r>
            <a:r>
              <a:rPr b="1" lang="en-US" sz="1200" spc="-1" strike="noStrike">
                <a:solidFill>
                  <a:srgbClr val="000000"/>
                </a:solidFill>
                <a:latin typeface="Times New Roman"/>
              </a:rPr>
              <a:t>Do not play around with depth counseling </a:t>
            </a:r>
            <a:r>
              <a:rPr b="0" lang="en-US" sz="1200" spc="-1" strike="noStrike">
                <a:solidFill>
                  <a:srgbClr val="000000"/>
                </a:solidFill>
                <a:latin typeface="Times New Roman"/>
              </a:rPr>
              <a:t>if you are not a professional therap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formal Counseling</a:t>
            </a:r>
            <a:r>
              <a:rPr b="0" i="1" lang="en-US" sz="1200" spc="-1" strike="noStrike">
                <a:solidFill>
                  <a:srgbClr val="000000"/>
                </a:solidFill>
                <a:latin typeface="Times New Roman"/>
              </a:rPr>
              <a:t> </a:t>
            </a:r>
            <a:r>
              <a:rPr b="0" lang="en-US" sz="1200" spc="-1" strike="noStrike">
                <a:solidFill>
                  <a:srgbClr val="000000"/>
                </a:solidFill>
                <a:latin typeface="Times New Roman"/>
              </a:rPr>
              <a:t>takes place in a casual setting.  Perhaps on a hospital visit, or during an informal home visit, the counselor may be drawn into a conversation where their help might be asked for. Or you may meet a friend on the street and ask, “How are you today?”  Then you may be told of a problem that he or she is experiencing.  Your time and concern could be of help at that time.  Informal counseling may not seem very important, but it has helped man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057400" y="609480"/>
            <a:ext cx="2895480" cy="2286000"/>
          </a:xfrm>
          <a:prstGeom prst="rect">
            <a:avLst/>
          </a:prstGeom>
          <a:ln w="0">
            <a:noFill/>
          </a:ln>
        </p:spPr>
      </p:sp>
      <p:sp>
        <p:nvSpPr>
          <p:cNvPr id="195" name="PlaceHolder 2"/>
          <p:cNvSpPr>
            <a:spLocks noGrp="1"/>
          </p:cNvSpPr>
          <p:nvPr>
            <p:ph type="body"/>
          </p:nvPr>
        </p:nvSpPr>
        <p:spPr>
          <a:xfrm>
            <a:off x="761760" y="3123720"/>
            <a:ext cx="5607000" cy="4953240"/>
          </a:xfrm>
          <a:prstGeom prst="rect">
            <a:avLst/>
          </a:prstGeom>
          <a:noFill/>
          <a:ln w="0">
            <a:noFill/>
          </a:ln>
        </p:spPr>
        <p:txBody>
          <a:bodyPr lIns="93600" rIns="936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 Plan of Ac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feature of a counseling process is the relationship that exists between the counselor and the client.  The relationship is fostered by the client’s trust in the integrity, honesty, competence, and general behavior of the counselor.  Here are some considerations to help the counselor in his or her approach:</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efine the problem</a:t>
            </a:r>
            <a:r>
              <a:rPr b="0" lang="en-US" sz="1200" spc="-1" strike="noStrike">
                <a:solidFill>
                  <a:srgbClr val="000000"/>
                </a:solidFill>
                <a:latin typeface="Times New Roman"/>
              </a:rPr>
              <a:t>.  By this, the counselor helps the client to say what is really bothering him or her.  Encourage the client to come to an understanding of what is going on inside of him or her.  This often leads to a willingness of the client to work towards some goals.  There are some skills that the counselor needs to practice before beginning to work with a client.  These are called </a:t>
            </a:r>
            <a:r>
              <a:rPr b="0" i="1" lang="en-US" sz="1200" spc="-1" strike="noStrike">
                <a:solidFill>
                  <a:srgbClr val="000000"/>
                </a:solidFill>
                <a:latin typeface="Times New Roman"/>
              </a:rPr>
              <a:t>attending skills</a:t>
            </a:r>
            <a:r>
              <a:rPr b="0" lang="en-US" sz="1200" spc="-1" strike="noStrike">
                <a:solidFill>
                  <a:srgbClr val="000000"/>
                </a:solidFill>
                <a:latin typeface="Times New Roman"/>
              </a:rPr>
              <a:t>, which help the client to see that the counselor is interested in his or her problem.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or should squarely face the client; lean toward the client to show that you are interested; maintain eye contact and keep the atmosphere relaxed.  Other skills needed are respect for the client, genuineness, primary empathy, and concretenes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pect for the client </a:t>
            </a:r>
            <a:r>
              <a:rPr b="0" lang="en-US" sz="1200" spc="-1" strike="noStrike">
                <a:solidFill>
                  <a:srgbClr val="000000"/>
                </a:solidFill>
                <a:latin typeface="Times New Roman"/>
              </a:rPr>
              <a:t>as a person of worth is important.  We communicate our feelings on this either verbally or non-verbally.  We must be sure to show respect for the client, regardless of their situa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enuineness </a:t>
            </a:r>
            <a:r>
              <a:rPr b="0" lang="en-US" sz="1200" spc="-1" strike="noStrike">
                <a:solidFill>
                  <a:srgbClr val="000000"/>
                </a:solidFill>
                <a:latin typeface="Times New Roman"/>
              </a:rPr>
              <a:t>in our dealings shows that what we say and do are the same.  If we say that we are interested in the client and act as if we do not care, that is not genuine, and the client will notice thi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imary level empathy </a:t>
            </a:r>
            <a:r>
              <a:rPr b="0" lang="en-US" sz="1200" spc="-1" strike="noStrike">
                <a:solidFill>
                  <a:srgbClr val="000000"/>
                </a:solidFill>
                <a:latin typeface="Times New Roman"/>
              </a:rPr>
              <a:t>is to show an understanding of the client’s feelings: the hurts, anger, frustration, and helplessnes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creteness </a:t>
            </a:r>
            <a:r>
              <a:rPr b="0" lang="en-US" sz="1200" spc="-1" strike="noStrike">
                <a:solidFill>
                  <a:srgbClr val="000000"/>
                </a:solidFill>
                <a:latin typeface="Times New Roman"/>
              </a:rPr>
              <a:t>is the</a:t>
            </a:r>
            <a:r>
              <a:rPr b="0" i="1" lang="en-US" sz="1200" spc="-1" strike="noStrike">
                <a:solidFill>
                  <a:srgbClr val="000000"/>
                </a:solidFill>
                <a:latin typeface="Times New Roman"/>
              </a:rPr>
              <a:t> </a:t>
            </a:r>
            <a:r>
              <a:rPr b="0" lang="en-US" sz="1200" spc="-1" strike="noStrike">
                <a:solidFill>
                  <a:srgbClr val="000000"/>
                </a:solidFill>
                <a:latin typeface="Times New Roman"/>
              </a:rPr>
              <a:t>art of keeping the client on the problem.  Encourage the client to be specific rather than talking in generaliti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24000" y="663480"/>
            <a:ext cx="2978280" cy="2233800"/>
          </a:xfrm>
          <a:prstGeom prst="rect">
            <a:avLst/>
          </a:prstGeom>
          <a:ln w="0">
            <a:noFill/>
          </a:ln>
        </p:spPr>
      </p:sp>
      <p:sp>
        <p:nvSpPr>
          <p:cNvPr id="161"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ing setting is of extreme importance.  It is not necessary to have a large, expensively furnished office.  </a:t>
            </a:r>
            <a:r>
              <a:rPr b="1" lang="en-US" sz="1200" spc="-1" strike="noStrike">
                <a:solidFill>
                  <a:srgbClr val="000000"/>
                </a:solidFill>
                <a:latin typeface="Times New Roman"/>
              </a:rPr>
              <a:t>What is of extreme importance is privacy.</a:t>
            </a:r>
            <a:r>
              <a:rPr b="0" lang="en-US" sz="1200" spc="-1" strike="noStrike">
                <a:solidFill>
                  <a:srgbClr val="000000"/>
                </a:solidFill>
                <a:latin typeface="Times New Roman"/>
              </a:rPr>
              <a:t>   The constant ringing of the telephone or knocking on doors can be distracting and may cause difficulty in establishing rapport. One may counsel in a home, a park, a chapel, vestry, or any available vacant room.  While privacy is very important, it is not wise to choose an out-of-the-way location where there are no humans in sight for miles.  </a:t>
            </a:r>
            <a:r>
              <a:rPr b="1" lang="en-US" sz="1200" spc="-1" strike="noStrike">
                <a:solidFill>
                  <a:srgbClr val="000000"/>
                </a:solidFill>
                <a:latin typeface="Times New Roman"/>
              </a:rPr>
              <a:t>A feeling of emotional and physical safety is necessar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simplicity of furnishing is acceptable, comfort is necessary.</a:t>
            </a:r>
            <a:r>
              <a:rPr b="0" lang="en-US" sz="1200" spc="-1" strike="noStrike">
                <a:solidFill>
                  <a:srgbClr val="000000"/>
                </a:solidFill>
                <a:latin typeface="Times New Roman"/>
              </a:rPr>
              <a:t>  If the room is pleasant and comfortable, the counselor and counselee will feel more relaxed and the sessions will be mor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range the chairs in the room so that the client may be able to choose their seat.</a:t>
            </a:r>
            <a:r>
              <a:rPr b="0" lang="en-US" sz="1200" spc="-1" strike="noStrike">
                <a:solidFill>
                  <a:srgbClr val="000000"/>
                </a:solidFill>
                <a:latin typeface="Times New Roman"/>
              </a:rPr>
              <a:t>  Avoid placing chairs in a position where the counselee cannot see you clearly.  You also need to be able to see him 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y to present a calm, pleasant, and prepared appearance</a:t>
            </a:r>
            <a:r>
              <a:rPr b="0" lang="en-US" sz="1200" spc="-1" strike="noStrike">
                <a:solidFill>
                  <a:srgbClr val="000000"/>
                </a:solidFill>
                <a:latin typeface="Times New Roman"/>
              </a:rPr>
              <a:t>.  This will put your client at ea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85800" y="609480"/>
            <a:ext cx="5562720" cy="50292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1" lang="en-US" sz="1200" spc="-1" strike="noStrike">
                <a:solidFill>
                  <a:srgbClr val="000000"/>
                </a:solidFill>
                <a:latin typeface="Times New Roman"/>
              </a:rPr>
              <a:t>Establish goals</a:t>
            </a:r>
            <a:r>
              <a:rPr b="0" lang="en-US" sz="1200" spc="-1" strike="noStrike">
                <a:solidFill>
                  <a:srgbClr val="000000"/>
                </a:solidFill>
                <a:latin typeface="Times New Roman"/>
              </a:rPr>
              <a:t>.  Help the client set goals for managing the problem, or at least a part of the problem.  Do not give the client the goals.  By defining the problem with him or her you will then be able to move on to guide him or her in the setting of goals.  Let us examine some of the skills that are needed for this ste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e advanced empathy </a:t>
            </a:r>
            <a:r>
              <a:rPr b="0" lang="en-US" sz="1200" spc="-1" strike="noStrike">
                <a:solidFill>
                  <a:srgbClr val="000000"/>
                </a:solidFill>
                <a:latin typeface="Times New Roman"/>
              </a:rPr>
              <a:t>helps the client to go deeper into revealing his or her feel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disclosure </a:t>
            </a:r>
            <a:r>
              <a:rPr b="0" lang="en-US" sz="1200" spc="-1" strike="noStrike">
                <a:solidFill>
                  <a:srgbClr val="000000"/>
                </a:solidFill>
                <a:latin typeface="Times New Roman"/>
              </a:rPr>
              <a:t>in which you let the client see you as a human being with  problems and struggles. (</a:t>
            </a:r>
            <a:r>
              <a:rPr b="1" lang="en-US" sz="1200" spc="-1" strike="noStrike">
                <a:solidFill>
                  <a:srgbClr val="000000"/>
                </a:solidFill>
                <a:latin typeface="Times New Roman"/>
              </a:rPr>
              <a:t>WARNING!  </a:t>
            </a:r>
            <a:r>
              <a:rPr b="0" lang="en-US" sz="1200" spc="-1" strike="noStrike">
                <a:solidFill>
                  <a:srgbClr val="000000"/>
                </a:solidFill>
                <a:latin typeface="Times New Roman"/>
              </a:rPr>
              <a:t>Do not disclose deeply personal and confidential issues about yourself).  Be careful not to detract from the client’s proble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frontation </a:t>
            </a:r>
            <a:r>
              <a:rPr b="0" lang="en-US" sz="1200" spc="-1" strike="noStrike">
                <a:solidFill>
                  <a:srgbClr val="000000"/>
                </a:solidFill>
                <a:latin typeface="Times New Roman"/>
              </a:rPr>
              <a:t>is another skill that is needed.  This is the skill of being able to challenge attitudes, behaviors, and beliefs of the cli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mediacy </a:t>
            </a:r>
            <a:r>
              <a:rPr b="0" lang="en-US" sz="1200" spc="-1" strike="noStrike">
                <a:solidFill>
                  <a:srgbClr val="000000"/>
                </a:solidFill>
                <a:latin typeface="Times New Roman"/>
              </a:rPr>
              <a:t>is the ability to focus on the here and now.  Resist the client’s urge to keep fixated in the past.  Although the client may need to refer to hurts and feelings related to the past, keep returning them to the here and now.  The objective of the counselor is to help the client set reasonable goals toward solving the probl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1" lang="en-US" sz="1200" spc="-1" strike="noStrike">
                <a:solidFill>
                  <a:srgbClr val="000000"/>
                </a:solidFill>
                <a:latin typeface="Times New Roman"/>
              </a:rPr>
              <a:t>Behavior change.</a:t>
            </a:r>
            <a:r>
              <a:rPr b="0" lang="en-US" sz="1200" spc="-1" strike="noStrike">
                <a:solidFill>
                  <a:srgbClr val="000000"/>
                </a:solidFill>
                <a:latin typeface="Times New Roman"/>
              </a:rPr>
              <a:t> Now it is time for action.  Action that will result in change in behavior is the focus here.   Show the client that his or her problems are related to behaviors.  Some things have to be unlearned, and others have to be learned. Note that behaviors are related to situations in life. Behaviors are also called </a:t>
            </a:r>
            <a:r>
              <a:rPr b="0" i="1" lang="en-US" sz="1200" spc="-1" strike="noStrike">
                <a:solidFill>
                  <a:srgbClr val="000000"/>
                </a:solidFill>
                <a:latin typeface="Times New Roman"/>
              </a:rPr>
              <a:t>habits.  </a:t>
            </a:r>
            <a:r>
              <a:rPr b="0" lang="en-US" sz="1200" spc="-1" strike="noStrike">
                <a:solidFill>
                  <a:srgbClr val="000000"/>
                </a:solidFill>
                <a:latin typeface="Times New Roman"/>
              </a:rPr>
              <a:t>Habits which are learned, have to be unlearned if they are undesirable. The client will now be working toward his or her goals for behavior change.  This is called </a:t>
            </a:r>
            <a:r>
              <a:rPr b="0" i="1" lang="en-US" sz="1200" spc="-1" strike="noStrike">
                <a:solidFill>
                  <a:srgbClr val="000000"/>
                </a:solidFill>
                <a:latin typeface="Times New Roman"/>
              </a:rPr>
              <a:t>behavior modification.  </a:t>
            </a:r>
            <a:r>
              <a:rPr b="0" lang="en-US" sz="1200" spc="-1" strike="noStrike">
                <a:solidFill>
                  <a:srgbClr val="000000"/>
                </a:solidFill>
                <a:latin typeface="Times New Roman"/>
              </a:rPr>
              <a:t>Now an action plan is made and worked on.  Designing and working on an action plan involves the follow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a:t>
            </a:r>
            <a:r>
              <a:rPr b="0" lang="en-US" sz="1200" spc="-1" strike="noStrike">
                <a:solidFill>
                  <a:srgbClr val="000000"/>
                </a:solidFill>
                <a:latin typeface="Times New Roman"/>
              </a:rPr>
              <a:t> the circumstances in which the undesirable habits occu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rol</a:t>
            </a:r>
            <a:r>
              <a:rPr b="0" lang="en-US" sz="1200" spc="-1" strike="noStrike">
                <a:solidFill>
                  <a:srgbClr val="000000"/>
                </a:solidFill>
                <a:latin typeface="Times New Roman"/>
              </a:rPr>
              <a:t> those circumstances by avoiding or eliminating factors that reinforce the behavi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stitute</a:t>
            </a:r>
            <a:r>
              <a:rPr b="0" lang="en-US" sz="1200" spc="-1" strike="noStrike">
                <a:solidFill>
                  <a:srgbClr val="000000"/>
                </a:solidFill>
                <a:latin typeface="Times New Roman"/>
              </a:rPr>
              <a:t> desirable behaviors in place of the undesirable on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57400" y="685800"/>
            <a:ext cx="2895480" cy="2362320"/>
          </a:xfrm>
          <a:prstGeom prst="rect">
            <a:avLst/>
          </a:prstGeom>
          <a:ln w="0">
            <a:noFill/>
          </a:ln>
        </p:spPr>
      </p:sp>
      <p:sp>
        <p:nvSpPr>
          <p:cNvPr id="198"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AL ISSUES IN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n one’s zeal to help, ethical concerns are not considered.  It is of utmost importance that a counselor pays strict attention to ethics in counse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 layperson is not as alert to the ethical responsibility of a counselor.  Sometimes ignorance of some of the “rules of the game” can lead to trouble. When we talk about ethics we are really referring to good and bad practices in counseling.  Carelessness regarding ethics can have very serious consequences.  We will examine some ethical issues of which all who engage in any type of counseling must be awa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828800" y="685800"/>
            <a:ext cx="3238560" cy="2286000"/>
          </a:xfrm>
          <a:prstGeom prst="rect">
            <a:avLst/>
          </a:prstGeom>
          <a:ln w="0">
            <a:noFill/>
          </a:ln>
        </p:spPr>
      </p:sp>
      <p:sp>
        <p:nvSpPr>
          <p:cNvPr id="200" name="PlaceHolder 2"/>
          <p:cNvSpPr>
            <a:spLocks noGrp="1"/>
          </p:cNvSpPr>
          <p:nvPr>
            <p:ph type="body"/>
          </p:nvPr>
        </p:nvSpPr>
        <p:spPr>
          <a:xfrm>
            <a:off x="609120" y="3124080"/>
            <a:ext cx="5607000" cy="56390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ights of Cli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ors who</a:t>
            </a:r>
            <a:r>
              <a:rPr b="0" i="1" lang="en-US" sz="1200" spc="-1" strike="noStrike">
                <a:solidFill>
                  <a:srgbClr val="000000"/>
                </a:solidFill>
                <a:latin typeface="Times New Roman"/>
              </a:rPr>
              <a:t> </a:t>
            </a:r>
            <a:r>
              <a:rPr b="0" lang="en-US" sz="1200" spc="-1" strike="noStrike">
                <a:solidFill>
                  <a:srgbClr val="000000"/>
                </a:solidFill>
                <a:latin typeface="Times New Roman"/>
              </a:rPr>
              <a:t>demonstrate their respect for the rights of their clients build a good relationship with them.  The following are some of the rights of cli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ight of informed consent </a:t>
            </a:r>
            <a:r>
              <a:rPr b="0" lang="en-US" sz="1200" spc="-1" strike="noStrike">
                <a:solidFill>
                  <a:srgbClr val="000000"/>
                </a:solidFill>
                <a:latin typeface="Times New Roman"/>
              </a:rPr>
              <a:t>demands that clients be given enough information to make informed choices about entering and continuing the client/therapist relationship.  A sample of an “informed consent form” could be obtained from any professional counseling agency.  Issues that may affect the client’s decision to enter counseling may include general goals of counseling, responsibilities of the counselor toward the client, limitations and exceptions to confidentiality, the qualifications and background of the therapist, the fees involved, the approximate length of sessions and the services one could expec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inors’ rights.  </a:t>
            </a:r>
            <a:r>
              <a:rPr b="0" lang="en-US" sz="1200" spc="-1" strike="noStrike">
                <a:solidFill>
                  <a:srgbClr val="000000"/>
                </a:solidFill>
                <a:latin typeface="Times New Roman"/>
              </a:rPr>
              <a:t>An important issue is a minor’s right to treatment.   Can a minor seek counseling without parental consent?  What are the limits of confidentiality?   There are different standards for different countries.  In most places minors have to get parental consent before entering counseling, with a few exceptions like substance abuse, child abuse, and other crisis matt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ight to a referral.   </a:t>
            </a:r>
            <a:r>
              <a:rPr b="0" lang="en-US" sz="1200" spc="-1" strike="noStrike">
                <a:solidFill>
                  <a:srgbClr val="000000"/>
                </a:solidFill>
                <a:latin typeface="Times New Roman"/>
              </a:rPr>
              <a:t>When a counselor feels unqualified to handle a case, or believes that the type or duration of treatment at hand is too limited for what the client should receive, it is time to refer.  The AACD (American Association of Counseling Development) gives the following guideline:  “If the counselor determines an inability to be of professional assistance to the client, the counselor must either avoid initiating the counseling relationship or immediately terminate that relationship.”  Let the client know that you have his or her interest and heart, but you do not have the skills to give the help that is needed.  Do not give the impression that you are trying to get rid of the client.  By advance checking, you should be able to recommend a therapist who is qualified to take care of your client.  Have information on that therapist that you could share.  That will help the client to feel secure about the change in the counseling relationshi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uty to warn and protect.  </a:t>
            </a:r>
            <a:r>
              <a:rPr b="0" lang="en-US" sz="1200" spc="-1" strike="noStrike">
                <a:solidFill>
                  <a:srgbClr val="000000"/>
                </a:solidFill>
                <a:latin typeface="Times New Roman"/>
              </a:rPr>
              <a:t>There is a dual responsibility here for all counselors.  The first duty is to protect other people from potentially dangerous clients.  The second duty is to protect clients from themselves.  These responsibilities are often brought to the attention of mental health practitioners.  They are expected to warn the public of potentially dangerous clients, also to commit dangerous individuals.  Prematurely discharging is also illegal.  Generally, counselors ought to use sound professional judgment and seek consultation when they are in doubt about a particular situatio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676520" y="838080"/>
            <a:ext cx="3124080" cy="2514600"/>
          </a:xfrm>
          <a:prstGeom prst="rect">
            <a:avLst/>
          </a:prstGeom>
          <a:ln w="0">
            <a:noFill/>
          </a:ln>
        </p:spPr>
      </p:sp>
      <p:sp>
        <p:nvSpPr>
          <p:cNvPr id="202" name="PlaceHolder 2"/>
          <p:cNvSpPr>
            <a:spLocks noGrp="1"/>
          </p:cNvSpPr>
          <p:nvPr>
            <p:ph type="body"/>
          </p:nvPr>
        </p:nvSpPr>
        <p:spPr>
          <a:xfrm>
            <a:off x="701280" y="3886200"/>
            <a:ext cx="5607000" cy="4713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PERSONAL RELATIONSHIPS WIT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delicate issue is how social and personal relationships mix with therapeutic ones.  How can a counselor balance a friendship with a therapeutic relationship?  Friendships can be therapeutic but it is difficult to be mainly concerned with a counseling relationship and maintain a personal relationship outside of sessions.  This relationship is referred to as “dual relationships.”  Dual relationships pose some subtle problems.  People who counsel friends or family members are often too close to them to be objective and sometimes their own needs are connected to the problems of their family or friends.  Another potential problem is that because counselors are very powerful, it is easy for exploitation to take place when the relationships are other than professional.  The AACD states, “Psychologists make every effort to avoid dual relationships that could impair their professional judgment or increase the risk of exploit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28800" y="762120"/>
            <a:ext cx="3276720" cy="2438280"/>
          </a:xfrm>
          <a:prstGeom prst="rect">
            <a:avLst/>
          </a:prstGeom>
          <a:ln w="0">
            <a:noFill/>
          </a:ln>
        </p:spPr>
      </p:sp>
      <p:sp>
        <p:nvSpPr>
          <p:cNvPr id="204"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CHING AS A PART OF THE COUNSELING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herapists are concerned about the place of touching in a therapeutic relationship. Should a counselor touch the client or not? Some experts feel that non-erotic touching can be of benefit to the client.  Here are some suggested guidelines for appropriate non-erotic tou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n cases of counseling socially and emotionally immature clients, (e.g those with a history of maternal depriv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 counseling people in crisis, such as those suffering from grief or trau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giving general emotional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 greeting or at the end of a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xual Contact wit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jor ethical issue.  However, the rules are clear.  All professional codes have specific statements declaring that sexual contact with clients is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several places, it is illegal.  Sexual misconduct is one of the major causes for malpractice sui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1080" y="914400"/>
            <a:ext cx="3200400" cy="2438280"/>
          </a:xfrm>
          <a:prstGeom prst="rect">
            <a:avLst/>
          </a:prstGeom>
          <a:ln w="0">
            <a:noFill/>
          </a:ln>
        </p:spPr>
      </p:sp>
      <p:sp>
        <p:nvSpPr>
          <p:cNvPr id="206" name="PlaceHolder 2"/>
          <p:cNvSpPr>
            <a:spLocks noGrp="1"/>
          </p:cNvSpPr>
          <p:nvPr>
            <p:ph type="body"/>
          </p:nvPr>
        </p:nvSpPr>
        <p:spPr>
          <a:xfrm>
            <a:off x="685440" y="3962160"/>
            <a:ext cx="5607000" cy="2895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UICIDAL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hallenging to deal with suicidal clients.  Laypersons are advised to refer them to professional therapists.  However, there are steps that any counselor can take in dealing with suicidal persons.  Confidentiality here is very limited.  One should take a suicidal threat seriously and see that the client’s life is at risk.  Everyone should at least be acquainted with certain signs of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ing away prized pos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and discussing suicide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suicide attempts or ges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ons of hopelessness and helpless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that family and friends would not miss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positive behavior change following a period of depress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33720" y="762120"/>
            <a:ext cx="3276360" cy="2819160"/>
          </a:xfrm>
          <a:prstGeom prst="rect">
            <a:avLst/>
          </a:prstGeom>
          <a:ln w="0">
            <a:noFill/>
          </a:ln>
        </p:spPr>
      </p:sp>
      <p:sp>
        <p:nvSpPr>
          <p:cNvPr id="208" name="PlaceHolder 2"/>
          <p:cNvSpPr>
            <a:spLocks noGrp="1"/>
          </p:cNvSpPr>
          <p:nvPr>
            <p:ph type="body"/>
          </p:nvPr>
        </p:nvSpPr>
        <p:spPr>
          <a:xfrm>
            <a:off x="701280" y="4038120"/>
            <a:ext cx="5607000" cy="4560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failure to take action can result in liability for the counselor, it is helpful to have in place some possible courses of action in the event that a client threatens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ssible have the client agree to call you or a local emergency service in time of cri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rm the client and remove all weapons or poison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a frequency of counseling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a method for the client to call you frequently between sessions so that his or her emotional state can be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ge the client to seek medical help and hospit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nderestimate the power of pr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uicidal clients need to be referred to a professional therapist and psychia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81080" y="609480"/>
            <a:ext cx="3276720" cy="2667240"/>
          </a:xfrm>
          <a:prstGeom prst="rect">
            <a:avLst/>
          </a:prstGeom>
          <a:ln w="0">
            <a:noFill/>
          </a:ln>
        </p:spPr>
      </p:sp>
      <p:sp>
        <p:nvSpPr>
          <p:cNvPr id="210" name="PlaceHolder 2"/>
          <p:cNvSpPr>
            <a:spLocks noGrp="1"/>
          </p:cNvSpPr>
          <p:nvPr>
            <p:ph type="body"/>
          </p:nvPr>
        </p:nvSpPr>
        <p:spPr>
          <a:xfrm>
            <a:off x="685440" y="3428640"/>
            <a:ext cx="5715000" cy="51814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DENTIALITY</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dentiality is both a legal and ethical issue.  The counselor should let the client know the extent of confidentiality in the relationship.  Confidentiality must be broken when it becomes clear that the client may harm himself or others.  The counselor is also legally bound to break confidentiality when there is child abuse, abuse of the elderly, and dangers to others.  Sometimes, information collected in a session may need to be discussed with others for professional purposes only and with persons who are clearly related to the case.  Inform the client of this.  Here are some circumstances that allow for the reporting of informa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mstances for breaking confidentiality:</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ents pose a danger to themselve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herapist believes that a client under the age of 16 has been the victim of rape, incest, child abuse, or some other crim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unselor determines that the client needs hospitaliza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is made an issue in a court cas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confidentiality cannot be overstressed.  This is a pillar of the counseling relationship.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 STEP-BY-STEP</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outlined some technical information, let us review some of what we have studi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daily for the guidance of the Holy Spiri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a room that is neat and comfortabl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ttention to the furniture, lighting, and privacy.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system to record information about the client (name, sex, address, telephone number, email address, date of birth, marital status, occupation etc.).  This gives a bit of a background and makes it easy for you to contact the client if you need to.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session, greet the counselee in a friendly manner. Do not be over friendly or bubbly.  Be natural and professional.  Keep your professional stance throughout the sessio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701280" y="533520"/>
            <a:ext cx="5699160" cy="82296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counseling session with a few general questions like, “How are you today?”  “Did you have difficulty finding my place?”  You may also say something like, “So, what brings you here today?” Master the art of asking open-ended questions during the sessions. (Instead of asking “Do you think that was a fair statement?”  Ask, “What were your feelings about that statement your husband mad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e client and put him or her at ease by remarking, “I would like to congratulate you for deciding to come so that we could work on your situ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confidentiality rules with the client.  “I assure you that our counseling relationship would be very confidential.  I will not share anything you tell me </a:t>
            </a:r>
            <a:r>
              <a:rPr b="1" lang="en-US" sz="1200" spc="-1" strike="noStrike">
                <a:solidFill>
                  <a:srgbClr val="000000"/>
                </a:solidFill>
                <a:latin typeface="Times New Roman"/>
              </a:rPr>
              <a:t>unless</a:t>
            </a:r>
            <a:r>
              <a:rPr b="0" lang="en-US" sz="1200" spc="-1" strike="noStrike">
                <a:solidFill>
                  <a:srgbClr val="000000"/>
                </a:solidFill>
                <a:latin typeface="Times New Roman"/>
              </a:rPr>
              <a:t> it involves hurting yourself or another, or if the information you give is required by law for me to reveal.”  (</a:t>
            </a:r>
            <a:r>
              <a:rPr b="0" i="1" lang="en-US" sz="1200" spc="-1" strike="noStrike">
                <a:solidFill>
                  <a:srgbClr val="000000"/>
                </a:solidFill>
                <a:latin typeface="Times New Roman"/>
              </a:rPr>
              <a:t>The information is listed in a previous section, explaining what cannot be kept confidenti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the client of what he or she could expect from you (including the right to ref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be afraid to state that your approach is Bible-bas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 to the problem carefully before coming to any conclus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careful not to take sides.  Instant blaming or endorsing clouds objectiv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ow a deep interest in what the client is saying and ask questions for clarif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y to identify the problem.  Three basic questions in counseling are the following:  “What is going on?”  “How do you feel about it?”  “Do you want to chan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like “How does that make you feel?”  “What would you like us to accomplish here?”  It is a good idea to encourage the client to set some goals.  Avoid advice giving.  You are merely to help the clients arrive at the decisions regarding the actions they should tak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ounding judgmental in your approac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listen, list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lient is silent after you ask him or her a question, do not become impatient.  Wait patiently until the client answers.  Silence is ok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come uncomfortable if your client cries. It is okay.  You need to try to control </a:t>
            </a:r>
            <a:r>
              <a:rPr b="0" i="1" lang="en-US" sz="1200" spc="-1" strike="noStrike">
                <a:solidFill>
                  <a:srgbClr val="000000"/>
                </a:solidFill>
                <a:latin typeface="Times New Roman"/>
              </a:rPr>
              <a:t>your</a:t>
            </a:r>
            <a:r>
              <a:rPr b="0" lang="en-US" sz="1200" spc="-1" strike="noStrike">
                <a:solidFill>
                  <a:srgbClr val="000000"/>
                </a:solidFill>
                <a:latin typeface="Times New Roman"/>
              </a:rPr>
              <a:t> emotions, howe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ethical standards </a:t>
            </a:r>
            <a:r>
              <a:rPr b="1" lang="en-US" sz="1200" spc="-1" strike="noStrike">
                <a:solidFill>
                  <a:srgbClr val="000000"/>
                </a:solidFill>
                <a:latin typeface="Times New Roman"/>
              </a:rPr>
              <a:t>at all times</a:t>
            </a:r>
            <a:r>
              <a:rPr b="0" lang="en-US" sz="1200" spc="-1" strike="noStrike">
                <a:solidFill>
                  <a:srgbClr val="000000"/>
                </a:solidFill>
                <a:latin typeface="Times New Roman"/>
              </a:rPr>
              <a:t>.  Inappropriate touching, sexual suggestions or anything that is suggestive is wrong.  A hands-off policy, especially with clients of the opposite sex, is required.  (</a:t>
            </a:r>
            <a:r>
              <a:rPr b="0" i="1" lang="en-US" sz="1200" spc="-1" strike="noStrike">
                <a:solidFill>
                  <a:srgbClr val="000000"/>
                </a:solidFill>
                <a:latin typeface="Times New Roman"/>
              </a:rPr>
              <a:t>Study once more the section on ethics and sexual conta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if you notice that you cannot handle the situation.  Do not attempt to deal with problems that require depth counseling.  </a:t>
            </a:r>
            <a:r>
              <a:rPr b="0" i="1" lang="en-US" sz="1200" spc="-1" strike="noStrike">
                <a:solidFill>
                  <a:srgbClr val="000000"/>
                </a:solidFill>
                <a:latin typeface="Times New Roman"/>
              </a:rPr>
              <a:t>(Study once more the section that explains thi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remember that you are not God.  There are some problems that only God can fix.  Teach the client to turn over the situation to God (James 1:5).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Bible handy for any texts you may need as resources.  Point the client to Jesus, the Wonderful Counselor (Isa. 9:6).  </a:t>
            </a:r>
            <a:r>
              <a:rPr b="0" i="1" lang="en-US" sz="1200" spc="-1" strike="noStrike">
                <a:solidFill>
                  <a:srgbClr val="000000"/>
                </a:solidFill>
                <a:latin typeface="Times New Roman"/>
              </a:rPr>
              <a:t>(See Appendix II for some Bible referen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in your heart throughout the se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e a sense of hope in the client. </a:t>
            </a:r>
            <a:r>
              <a:rPr b="0" lang="nb-NO" sz="1200" spc="-1" strike="noStrike">
                <a:solidFill>
                  <a:srgbClr val="000000"/>
                </a:solidFill>
                <a:latin typeface="Times New Roman"/>
              </a:rPr>
              <a:t>(Psa. 31:24; Deut.31:8, Luke 5:20,24; Joel 2:25; Isa. 44:2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with the client at the en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362320" y="685800"/>
            <a:ext cx="2857320" cy="2427120"/>
          </a:xfrm>
          <a:prstGeom prst="rect">
            <a:avLst/>
          </a:prstGeom>
          <a:ln w="0">
            <a:noFill/>
          </a:ln>
        </p:spPr>
      </p:sp>
      <p:sp>
        <p:nvSpPr>
          <p:cNvPr id="213" name="PlaceHolder 2"/>
          <p:cNvSpPr>
            <a:spLocks noGrp="1"/>
          </p:cNvSpPr>
          <p:nvPr>
            <p:ph type="body"/>
          </p:nvPr>
        </p:nvSpPr>
        <p:spPr>
          <a:xfrm>
            <a:off x="685440" y="373356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counseling is more than a process.  It is a ministry.  It is a way of using the mind of Christ and a heart of love.  Sin has brought misery and pain into this world, but God has made provision for healing and hope.  Christian counselors are unique.  They see a client as more than a subject for help.  A client is a soul to be saved—a candidate for heaven.  Although counselors may differ in method and approach, we are all followers of Christ.  We have a common manual—the Bible.  We have a Resource—Jesus.  Our Model is the Wonderful Counselor.  We have nothing to fea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266920" y="663480"/>
            <a:ext cx="3081240" cy="2311560"/>
          </a:xfrm>
          <a:prstGeom prst="rect">
            <a:avLst/>
          </a:prstGeom>
          <a:ln w="0">
            <a:noFill/>
          </a:ln>
        </p:spPr>
      </p:sp>
      <p:sp>
        <p:nvSpPr>
          <p:cNvPr id="163"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UNSELING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good for us to be aware of the classical approaches to counseling.  We do not stick to one approach.  What is recommended is that we become familiar with all of the approaches and then perhaps blend the different ideas that appeal to us.  There are some theories that we may not agree with.  However, it is educationally beneficial for us to know them.  Taking an idea from one approach and another idea from another approach to form our own counseling method is what is often done.  The following are the basic counseling appro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analytic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ria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tial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son-centered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stalt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actional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havior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tional-emotive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941560" y="507960"/>
            <a:ext cx="2665440" cy="1998720"/>
          </a:xfrm>
          <a:prstGeom prst="rect">
            <a:avLst/>
          </a:prstGeom>
          <a:ln w="0">
            <a:noFill/>
          </a:ln>
        </p:spPr>
      </p:sp>
      <p:sp>
        <p:nvSpPr>
          <p:cNvPr id="165" name="PlaceHolder 2"/>
          <p:cNvSpPr>
            <a:spLocks noGrp="1"/>
          </p:cNvSpPr>
          <p:nvPr>
            <p:ph type="body"/>
          </p:nvPr>
        </p:nvSpPr>
        <p:spPr>
          <a:xfrm>
            <a:off x="623520" y="2305080"/>
            <a:ext cx="5684760" cy="66405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ychoanalytic Therap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analysis is a method of psychotherapy and personality theory with a philosophical approach to human nature.  Sigmund Freud (1856-1939) was the originator of psychoanalysis.  According to Freud, human beings are basically determined by psychic energy and early experiences.  People’s behavior is influenced by unconscious motives and conflicts.  One is driven by sexual and aggressive impul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ud stresses the importance of early development and developmental stages referred to as </a:t>
            </a:r>
            <a:r>
              <a:rPr b="1" lang="en-US" sz="1200" spc="-1" strike="noStrike">
                <a:solidFill>
                  <a:srgbClr val="000000"/>
                </a:solidFill>
                <a:latin typeface="Times New Roman"/>
              </a:rPr>
              <a:t>psychosexual </a:t>
            </a:r>
            <a:r>
              <a:rPr b="0" lang="en-US" sz="1200" spc="-1" strike="noStrike">
                <a:solidFill>
                  <a:srgbClr val="000000"/>
                </a:solidFill>
                <a:latin typeface="Times New Roman"/>
              </a:rPr>
              <a:t>stages: the oral stage (the first year of life), the anal stage (ages 1-3), the phallic stage (ages 3-6), the latency stage (ages 6-12), the genital stage (ages 12-18), the genital stage then continues throughout the rest of a person’s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ing profession gives credit to the psychoanalytic theory for providing the tools for an in-depth understanding of a person’s development.  Freud contends that feelings of love and trust, dealing with negative feelings and developing a positive acceptance of sexuality, are social areas that are all cemented in the first six years of life.  Later, personality development is built on this period of lif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k Erikson built on Freud’s ideas and by extension stressed the social aspects of a person’s development.  These are called </a:t>
            </a:r>
            <a:r>
              <a:rPr b="1" lang="en-US" sz="1200" spc="-1" strike="noStrike">
                <a:solidFill>
                  <a:srgbClr val="000000"/>
                </a:solidFill>
                <a:latin typeface="Times New Roman"/>
              </a:rPr>
              <a:t>psychosocial </a:t>
            </a:r>
            <a:r>
              <a:rPr b="0" lang="en-US" sz="1200" spc="-1" strike="noStrike">
                <a:solidFill>
                  <a:srgbClr val="000000"/>
                </a:solidFill>
                <a:latin typeface="Times New Roman"/>
              </a:rPr>
              <a:t>stages: infancy (trust versus mistrust), early childhood (autonomy versus shame and doubt), preschool age (initiative versus guilt), school age (industry versus inferiority), adolescence (identity versus role confusion), young adulthood (intimacy versus isolation), middle age (generativity versus stagnation), and later life (integrity versus despai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apply any aspects of the psychoanalytic theory to your own personal grow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re some of your stereotypes or misconceptions of psychoanalysis before you read this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what you have studied about Freud, can you think of anyone whose current problems may have been the result of experiences during his or her first six years of life?  Discuss th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eel about the Freudian theo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43280" y="685800"/>
            <a:ext cx="3047760" cy="2286000"/>
          </a:xfrm>
          <a:prstGeom prst="rect">
            <a:avLst/>
          </a:prstGeom>
          <a:ln w="0">
            <a:noFill/>
          </a:ln>
        </p:spPr>
      </p:sp>
      <p:sp>
        <p:nvSpPr>
          <p:cNvPr id="16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leria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fred Adler (1870-1937) was not in agreement with Freud’s basic theories.  He thought that Freud was too narrow in his emphasis on the biological and sexual determination.  Like Freud, however, Adler believed that the first six years of life influenced an individual.  He did not focus on past events like Freud did.  He was more interested in how one interpreted his past and its continuing influence on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r was basically opposed to the theories of Freud.  It was Adler’s belief that humans are motivated primarily by social urges rather than sexual u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major differences between the theories of Freud and Ad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892160" y="685800"/>
            <a:ext cx="3454560" cy="2590920"/>
          </a:xfrm>
          <a:prstGeom prst="rect">
            <a:avLst/>
          </a:prstGeom>
          <a:ln w="0">
            <a:noFill/>
          </a:ln>
        </p:spPr>
      </p:sp>
      <p:sp>
        <p:nvSpPr>
          <p:cNvPr id="169"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istential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tialist view leads us to be able to reflect and decide.  This is made possible through our self-awareness.  There is no single founder of the existential approach, but Viktor Frankl, Abraham Maslow, and Rollo May are key figures.  Existential therapy is more of an approach to counseling than a theoretical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tial therapy focuses on the nature of the human condition.   Personality development is seen as being based on the uniqueness of each individual.  Sense of self develops from infa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personal freedom mean to you?  Would you say that you are what you are now because of your choices, or because of your circumsta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892160" y="685800"/>
            <a:ext cx="3454560" cy="2590920"/>
          </a:xfrm>
          <a:prstGeom prst="rect">
            <a:avLst/>
          </a:prstGeom>
          <a:ln w="0">
            <a:noFill/>
          </a:ln>
        </p:spPr>
      </p:sp>
      <p:sp>
        <p:nvSpPr>
          <p:cNvPr id="171"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centered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founder of person-centered therapy is Carl Rogers (1902-1987).  Because Rogers placed much emphasis on how people get, share, or surrender power and control over themselves and others, his theory became known as the </a:t>
            </a:r>
            <a:r>
              <a:rPr b="0" i="1" lang="en-US" sz="1200" spc="-1" strike="noStrike">
                <a:solidFill>
                  <a:srgbClr val="000000"/>
                </a:solidFill>
                <a:latin typeface="Times New Roman"/>
              </a:rPr>
              <a:t>person-centered approach.  </a:t>
            </a:r>
            <a:r>
              <a:rPr b="0" lang="en-US" sz="1200" spc="-1" strike="noStrike">
                <a:solidFill>
                  <a:srgbClr val="000000"/>
                </a:solidFill>
                <a:latin typeface="Times New Roman"/>
              </a:rPr>
              <a:t>He developed what is known as </a:t>
            </a:r>
            <a:r>
              <a:rPr b="0" i="1" lang="en-US" sz="1200" spc="-1" strike="noStrike">
                <a:solidFill>
                  <a:srgbClr val="000000"/>
                </a:solidFill>
                <a:latin typeface="Times New Roman"/>
              </a:rPr>
              <a:t>non-directive counseling</a:t>
            </a:r>
            <a:r>
              <a:rPr b="0" lang="en-US" sz="1200" spc="-1" strike="noStrike">
                <a:solidFill>
                  <a:srgbClr val="000000"/>
                </a:solidFill>
                <a:latin typeface="Times New Roman"/>
              </a:rPr>
              <a:t>.  Non-directive counselors do not share a great deal about themselves with their clients.  They focus on reflecting and clarifying the verbal and non-verbal communications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person-centered therapy, the relationship of the therapist and client is very important.  Basic techniques include active listening, reflection of feelings, clarification, and “being there” for the counsel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thin yourself might make empathetic understanding difficult for you?  Can you recall personal life experiences that will help you identify with your client’s strugg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7720" y="762120"/>
            <a:ext cx="3251160" cy="2438280"/>
          </a:xfrm>
          <a:prstGeom prst="rect">
            <a:avLst/>
          </a:prstGeom>
          <a:ln w="0">
            <a:noFill/>
          </a:ln>
        </p:spPr>
      </p:sp>
      <p:sp>
        <p:nvSpPr>
          <p:cNvPr id="173"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stalt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S. Perls (1893-1970) was the originator and developer of the Gestalt theory.  This is an existential approach that stresses that people must find their own way in life and accept personal responsibility for maturity.  By developing an </a:t>
            </a:r>
            <a:r>
              <a:rPr b="0" i="1" lang="en-US" sz="1200" spc="-1" strike="noStrike">
                <a:solidFill>
                  <a:srgbClr val="000000"/>
                </a:solidFill>
                <a:latin typeface="Times New Roman"/>
              </a:rPr>
              <a:t>awareness</a:t>
            </a:r>
            <a:r>
              <a:rPr b="0" lang="en-US" sz="1200" spc="-1" strike="noStrike">
                <a:solidFill>
                  <a:srgbClr val="000000"/>
                </a:solidFill>
                <a:latin typeface="Times New Roman"/>
              </a:rPr>
              <a:t> of what they are doing, clients can use this understanding to bring about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focus is on dealing with unfinished business from p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tic experiences in the life of the client.  Technique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rontation, dialogue with parties, role playing, reliving, and re-experiencing unfinished business in the forms of resentment and guilt.  The emphasis of this therapy is on doing and experiencing rather than merely talking about on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stalt therapy focuses on “reliving” traumatic experiences from the past rather than merely talking about one’s feelings.  What are your impressions of this kind of therap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879560" y="609480"/>
            <a:ext cx="3251160" cy="2438640"/>
          </a:xfrm>
          <a:prstGeom prst="rect">
            <a:avLst/>
          </a:prstGeom>
          <a:ln w="0">
            <a:noFill/>
          </a:ln>
        </p:spPr>
      </p:sp>
      <p:sp>
        <p:nvSpPr>
          <p:cNvPr id="175"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actional Analysis (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transactional analysis was founded by Eric Berne (1910-1970).  This therapy is very different from others in that it focuses on decisions and contracts made by the client.  The basic philosophy is that the client has the potential for choice.  A contract made by the client clearly states the directions and goals of the therapeutic process.  Transactional Analysis (TA) therapy teaches that the personality is made up of </a:t>
            </a:r>
            <a:r>
              <a:rPr b="0" i="1" lang="en-US" sz="1200" spc="-1" strike="noStrike">
                <a:solidFill>
                  <a:srgbClr val="000000"/>
                </a:solidFill>
                <a:latin typeface="Times New Roman"/>
              </a:rPr>
              <a:t>Parent, Adult, and Child.  </a:t>
            </a:r>
            <a:r>
              <a:rPr b="0" lang="en-US" sz="1200" spc="-1" strike="noStrike">
                <a:solidFill>
                  <a:srgbClr val="000000"/>
                </a:solidFill>
                <a:latin typeface="Times New Roman"/>
              </a:rPr>
              <a:t>Other keywords used in TA include </a:t>
            </a:r>
            <a:r>
              <a:rPr b="0" i="1" lang="en-US" sz="1200" spc="-1" strike="noStrike">
                <a:solidFill>
                  <a:srgbClr val="000000"/>
                </a:solidFill>
                <a:latin typeface="Times New Roman"/>
              </a:rPr>
              <a:t>game, decision, life script, re-decision, stroke, and discoun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games and strategies that you used as a child with your family that you are still aware of using in your present relationships with peop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race back some basic, early decisions that you made about yourself during your childhood?  Are those decisions still operating in your present behav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20E0A-5F60-41A4-B7E3-37EEAF202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FF5DD-2D24-4F7C-90C1-ED104A5E7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10244-6E1C-4B0F-9800-C0140F6C0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953A9-4902-4FA1-B1D8-1822797D1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9926F-F459-48FD-AA8D-3EF642F18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9BF18-C2EE-45E9-95B4-2384BC613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DE593-B475-4458-A7FF-CD2B8EBFB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B85DD-FA4E-48B2-A37E-2D8184D1F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83D5A-E06A-419A-B0A7-5C469C561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0F6C7-DBA7-4194-933F-3F7F249E5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EDA32-C00E-49AD-B2A7-5F237152A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F5F8F-156E-4A0F-AFDF-3B122071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077C1-AB44-40D2-9F91-BDCC0A09B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684C2-34D0-41C4-8A16-14A071C76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7B487-098F-482E-AC93-4565506C1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0A37C-4DDB-4451-933F-6682CB56E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8CDE1-0E68-49E3-A3E7-9F2A7E19B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FC26-896A-45F1-B177-B19F9065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A09D0-7D1A-4961-B063-92BA1E777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A4A8B-FA49-466A-ADA4-888165582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C410D-0E18-4B9D-9D85-94ECAB81A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08CB-F625-44AE-97D5-572DDDA6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40ED-B6D1-4E2F-B8DD-66EB1E0F0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1AD7F-374E-4A75-A316-75D595994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4AD3-7135-4AA9-944E-048875B67B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ABA3-5B80-4FF1-9835-C82FDC400C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gi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1080"/>
            <a:ext cx="678168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erplate Gothic Bold"/>
              </a:rPr>
              <a:t>Principles of Counseling</a:t>
            </a:r>
            <a:r>
              <a:rPr b="0" lang="en-U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685800" y="4800240"/>
            <a:ext cx="6781680" cy="15238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eadership Certification</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urse</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evel 2</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General Conference Women’s Ministries</a:t>
            </a:r>
            <a:endParaRPr b="0" lang="en-US" sz="2000" spc="-1" strike="noStrike">
              <a:solidFill>
                <a:srgbClr val="ffffff"/>
              </a:solidFill>
              <a:latin typeface="Georgia"/>
            </a:endParaRPr>
          </a:p>
        </p:txBody>
      </p:sp>
      <p:sp>
        <p:nvSpPr>
          <p:cNvPr id="90" name=""/>
          <p:cNvSpPr/>
          <p:nvPr/>
        </p:nvSpPr>
        <p:spPr>
          <a:xfrm>
            <a:off x="2746800" y="3275640"/>
            <a:ext cx="2506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loria Trotma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Behavior Therapy</a:t>
            </a:r>
            <a:endParaRPr b="0" lang="en-US" sz="4400" spc="-1" strike="noStrike">
              <a:solidFill>
                <a:srgbClr val="ffffff"/>
              </a:solidFill>
              <a:latin typeface="Copperplate Gothic Bold"/>
            </a:endParaRPr>
          </a:p>
        </p:txBody>
      </p:sp>
      <p:sp>
        <p:nvSpPr>
          <p:cNvPr id="113"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Most studied and most familiar of all counseling approaches</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requently used terms – behavior modification, behavior therapy</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rapist functions as teacher or trainer</a:t>
            </a:r>
            <a:endParaRPr b="0" lang="en-US" sz="3600" spc="-1" strike="noStrike">
              <a:solidFill>
                <a:srgbClr val="ffffff"/>
              </a:solidFill>
              <a:latin typeface="Georgia"/>
            </a:endParaRPr>
          </a:p>
        </p:txBody>
      </p:sp>
      <p:pic>
        <p:nvPicPr>
          <p:cNvPr id="114"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304920"/>
            <a:ext cx="6705720" cy="12189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Rational-Emotive Therapy</a:t>
            </a:r>
            <a:endParaRPr b="0" lang="en-US" sz="4400" spc="-1" strike="noStrike">
              <a:solidFill>
                <a:srgbClr val="ffffff"/>
              </a:solidFill>
              <a:latin typeface="Copperplate Gothic Bold"/>
            </a:endParaRPr>
          </a:p>
        </p:txBody>
      </p:sp>
      <p:sp>
        <p:nvSpPr>
          <p:cNvPr id="116" name="PlaceHolder 2"/>
          <p:cNvSpPr>
            <a:spLocks noGrp="1"/>
          </p:cNvSpPr>
          <p:nvPr>
            <p:ph/>
          </p:nvPr>
        </p:nvSpPr>
        <p:spPr>
          <a:xfrm>
            <a:off x="1447920" y="1599840"/>
            <a:ext cx="7696080" cy="3962520"/>
          </a:xfrm>
          <a:prstGeom prst="rect">
            <a:avLst/>
          </a:prstGeom>
          <a:noFill/>
          <a:ln w="0">
            <a:noFill/>
          </a:ln>
        </p:spPr>
        <p:txBody>
          <a:bodyPr lIns="90000" rIns="90000" tIns="46800" bIns="46800" anchor="t">
            <a:normAutofit fontScale="89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bert Ellis is the found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ased on the assumptions that humans are born with potential for both rational and irrational thinking</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mphasizes thinking, judging, deciding, and doing</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lief that people have the ability to change their behavior</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838080"/>
            <a:ext cx="59436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Reality Therapy</a:t>
            </a:r>
            <a:endParaRPr b="0" lang="en-US" sz="4400" spc="-1" strike="noStrike">
              <a:solidFill>
                <a:srgbClr val="ffffff"/>
              </a:solidFill>
              <a:latin typeface="Copperplate Gothic Bold"/>
            </a:endParaRPr>
          </a:p>
        </p:txBody>
      </p:sp>
      <p:sp>
        <p:nvSpPr>
          <p:cNvPr id="118"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nded by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cuses on the present and the person’s strength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sumes that we choose our behavior and are responsible for our behavior, thoughts, and feeling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se of contracts to cause change in behavior</a:t>
            </a:r>
            <a:endParaRPr b="0" lang="en-US" sz="3200" spc="-1" strike="noStrike">
              <a:solidFill>
                <a:srgbClr val="ffffff"/>
              </a:solidFill>
              <a:latin typeface="Georgia"/>
            </a:endParaRPr>
          </a:p>
        </p:txBody>
      </p:sp>
      <p:pic>
        <p:nvPicPr>
          <p:cNvPr id="119"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HE CLIENT</a:t>
            </a:r>
            <a:endParaRPr b="0" lang="en-US" sz="4400" spc="-1" strike="noStrike">
              <a:solidFill>
                <a:srgbClr val="ffffff"/>
              </a:solidFill>
              <a:latin typeface="Copperplate Gothic Bold"/>
            </a:endParaRPr>
          </a:p>
        </p:txBody>
      </p:sp>
      <p:sp>
        <p:nvSpPr>
          <p:cNvPr id="121"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8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rategies for dealing with the reluctant client:</a:t>
            </a:r>
            <a:endParaRPr b="0" lang="en-US" sz="3200" spc="-1" strike="noStrike">
              <a:solidFill>
                <a:srgbClr val="ffffff"/>
              </a:solidFill>
              <a:latin typeface="Georgi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Refuse to consider yourself the target of the reluctance </a:t>
            </a: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ow confidence and do not be intimidated</a:t>
            </a: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o not ignore the feelings of a client</a:t>
            </a:r>
            <a:endParaRPr b="0" lang="en-US" sz="3200" spc="-1" strike="noStrike">
              <a:solidFill>
                <a:srgbClr val="ffffff"/>
              </a:solidFill>
              <a:latin typeface="Georgi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43000" y="22860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ategies cont’d:</a:t>
            </a:r>
            <a:endParaRPr b="0" lang="en-US" sz="3600" spc="-1" strike="noStrike">
              <a:solidFill>
                <a:srgbClr val="ffffff"/>
              </a:solidFill>
              <a:latin typeface="Georgia"/>
            </a:endParaRPr>
          </a:p>
          <a:p>
            <a:pPr marL="610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ry to interpret the reasons for the reluctance and use these as an opportunity for teaching the client greater self-understanding.</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ow the client that counseling helps one to deal with feelings even if they are uncomfortable.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atient exploration of the client’s behavior can help reduce the reluctance.</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o straight to work on  eliminating barriers.  </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rofile of a Counselor</a:t>
            </a:r>
            <a:endParaRPr b="0" lang="en-US" sz="4400" spc="-1" strike="noStrike">
              <a:solidFill>
                <a:srgbClr val="ffffff"/>
              </a:solidFill>
              <a:latin typeface="Copperplate Gothic Bold"/>
            </a:endParaRPr>
          </a:p>
        </p:txBody>
      </p:sp>
      <p:sp>
        <p:nvSpPr>
          <p:cNvPr id="124" name="PlaceHolder 2"/>
          <p:cNvSpPr>
            <a:spLocks noGrp="1"/>
          </p:cNvSpPr>
          <p:nvPr>
            <p:ph/>
          </p:nvPr>
        </p:nvSpPr>
        <p:spPr>
          <a:xfrm>
            <a:off x="837720" y="1676160"/>
            <a:ext cx="6782040" cy="5181480"/>
          </a:xfrm>
          <a:prstGeom prst="rect">
            <a:avLst/>
          </a:prstGeom>
          <a:noFill/>
          <a:ln w="0">
            <a:noFill/>
          </a:ln>
        </p:spPr>
        <p:txBody>
          <a:bodyPr lIns="90000" rIns="90000" tIns="46800" bIns="46800" anchor="t">
            <a:normAutofit fontScale="97000"/>
          </a:bodyPr>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ave an identity</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ppreciate the worth God has placed on you</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open to change</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evelop your own counseling style</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open, sincere, and honest</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evelop your sense of humor</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sensitive to people’s culture</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304560"/>
            <a:ext cx="7315200" cy="617220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Profile cont’d:</a:t>
            </a:r>
            <a:endParaRPr b="0" lang="en-US" sz="38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e an optimist</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Enjoy life</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 caring spirit</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 reputation for confidentiality</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e sensitive to human relationships</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n objective attitude</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Do not display a passion to reform everyone</a:t>
            </a:r>
            <a:endParaRPr b="0" lang="en-US" sz="3400" spc="-1" strike="noStrike">
              <a:solidFill>
                <a:srgbClr val="ffffff"/>
              </a:solidFill>
              <a:latin typeface="Georgia"/>
            </a:endParaRPr>
          </a:p>
        </p:txBody>
      </p:sp>
      <p:pic>
        <p:nvPicPr>
          <p:cNvPr id="126"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Profiles Cont’d:</a:t>
            </a:r>
            <a:endParaRPr b="0" lang="en-US" sz="3800" spc="-1" strike="noStrike">
              <a:solidFill>
                <a:srgbClr val="ffffff"/>
              </a:solidFill>
              <a:latin typeface="Georgia"/>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natur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how confidence in people and in their potential for growth</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a listener</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bserve boundaries</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Keep God as your Guide</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opperplate Gothic Bold"/>
              </a:rPr>
              <a:t>Types of Counseling</a:t>
            </a:r>
            <a:endParaRPr b="0" lang="en-US" sz="4400" spc="-1" strike="noStrike">
              <a:solidFill>
                <a:srgbClr val="ffffff"/>
              </a:solidFill>
              <a:latin typeface="Copperplate Gothic Bold"/>
            </a:endParaRPr>
          </a:p>
        </p:txBody>
      </p:sp>
      <p:sp>
        <p:nvSpPr>
          <p:cNvPr id="129"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ppor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frontational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duca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ven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piritual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pth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formal Counseling</a:t>
            </a:r>
            <a:endParaRPr b="0" lang="en-US" sz="3200" spc="-1" strike="noStrike">
              <a:solidFill>
                <a:srgbClr val="ffffff"/>
              </a:solidFill>
              <a:latin typeface="Georgia"/>
            </a:endParaRPr>
          </a:p>
        </p:txBody>
      </p:sp>
      <p:pic>
        <p:nvPicPr>
          <p:cNvPr id="130"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unseling Plan of Action</a:t>
            </a:r>
            <a:endParaRPr b="0" lang="en-US" sz="4400" spc="-1" strike="noStrike">
              <a:solidFill>
                <a:srgbClr val="ffffff"/>
              </a:solidFill>
              <a:latin typeface="Copperplate Gothic Bold"/>
            </a:endParaRPr>
          </a:p>
        </p:txBody>
      </p:sp>
      <p:sp>
        <p:nvSpPr>
          <p:cNvPr id="132" name="PlaceHolder 2"/>
          <p:cNvSpPr>
            <a:spLocks noGrp="1"/>
          </p:cNvSpPr>
          <p:nvPr>
            <p:ph/>
          </p:nvPr>
        </p:nvSpPr>
        <p:spPr>
          <a:xfrm>
            <a:off x="6094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Define the problem</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Establish goal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Behavior change</a:t>
            </a:r>
            <a:endParaRPr b="0" lang="en-US" sz="4000" spc="-1" strike="noStrike">
              <a:solidFill>
                <a:srgbClr val="ffffff"/>
              </a:solidFill>
              <a:latin typeface="Georgia"/>
            </a:endParaRPr>
          </a:p>
        </p:txBody>
      </p:sp>
      <p:pic>
        <p:nvPicPr>
          <p:cNvPr id="133"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he Setting</a:t>
            </a:r>
            <a:endParaRPr b="0" lang="en-US" sz="4400" spc="-1" strike="noStrike">
              <a:solidFill>
                <a:srgbClr val="ffffff"/>
              </a:solidFill>
              <a:latin typeface="Copperplate Gothic Bold"/>
            </a:endParaRPr>
          </a:p>
        </p:txBody>
      </p:sp>
      <p:sp>
        <p:nvSpPr>
          <p:cNvPr id="92"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tremely important to have privac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feeling of emotional and physical safety is necessar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mplicity is acceptable but comfort is necessar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rrange chairs so client can choose their seat</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sent a calm, pleasant, and prepared appearance</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35"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thical Issues in Counseling</a:t>
            </a:r>
            <a:endParaRPr b="0" lang="en-US" sz="4400" spc="-1" strike="noStrike">
              <a:solidFill>
                <a:srgbClr val="ffffff"/>
              </a:solidFill>
              <a:latin typeface="Copperplate Gothic Bold"/>
            </a:endParaRPr>
          </a:p>
        </p:txBody>
      </p:sp>
      <p:sp>
        <p:nvSpPr>
          <p:cNvPr id="137"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t is of utmost importance that a counselor pays strict attention to ethics in counseling</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thics refer to good and bad practices in counseling</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thical Issues Cont’d</a:t>
            </a:r>
            <a:endParaRPr b="0" lang="en-US" sz="4400" spc="-1" strike="noStrike">
              <a:solidFill>
                <a:srgbClr val="ffffff"/>
              </a:solidFill>
              <a:latin typeface="Copperplate Gothic Bold"/>
            </a:endParaRPr>
          </a:p>
        </p:txBody>
      </p:sp>
      <p:sp>
        <p:nvSpPr>
          <p:cNvPr id="139"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 Rights of the Client</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 of informed consent</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s of minor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 of referral</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uty to warn and protect</a:t>
            </a:r>
            <a:endParaRPr b="0" lang="en-US" sz="3600" spc="-1" strike="noStrike">
              <a:solidFill>
                <a:srgbClr val="ffffff"/>
              </a:solidFill>
              <a:latin typeface="Georgia"/>
            </a:endParaRPr>
          </a:p>
        </p:txBody>
      </p:sp>
      <p:pic>
        <p:nvPicPr>
          <p:cNvPr id="140" name="" descr=""/>
          <p:cNvPicPr/>
          <p:nvPr/>
        </p:nvPicPr>
        <p:blipFill>
          <a:blip r:embed="rId2"/>
          <a:stretch/>
        </p:blipFill>
        <p:spPr>
          <a:xfrm>
            <a:off x="228600" y="2362320"/>
            <a:ext cx="1828800" cy="120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456840"/>
            <a:ext cx="678204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pperplate Gothic Bold"/>
              </a:rPr>
              <a:t>Social and Personal Relationships with Clients</a:t>
            </a:r>
            <a:endParaRPr b="0" lang="en-US" sz="4000" spc="-1" strike="noStrike">
              <a:solidFill>
                <a:srgbClr val="ffffff"/>
              </a:solidFill>
              <a:latin typeface="Copperplate Gothic Bold"/>
            </a:endParaRPr>
          </a:p>
        </p:txBody>
      </p:sp>
      <p:sp>
        <p:nvSpPr>
          <p:cNvPr id="142"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ow can a counselor balance a friendship with a therapeutic relationship?</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eferred to as “dual relationships”</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ware of exploitation</a:t>
            </a:r>
            <a:endParaRPr b="0" lang="en-US" sz="3600" spc="-1" strike="noStrike">
              <a:solidFill>
                <a:srgbClr val="ffffff"/>
              </a:solidFill>
              <a:latin typeface="Georgia"/>
            </a:endParaRPr>
          </a:p>
        </p:txBody>
      </p:sp>
      <p:pic>
        <p:nvPicPr>
          <p:cNvPr id="143"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22824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ouching a client</a:t>
            </a:r>
            <a:endParaRPr b="0" lang="en-US" sz="4400" spc="-1" strike="noStrike">
              <a:solidFill>
                <a:srgbClr val="ffffff"/>
              </a:solidFill>
              <a:latin typeface="Copperplate Gothic Bold"/>
            </a:endParaRPr>
          </a:p>
        </p:txBody>
      </p:sp>
      <p:sp>
        <p:nvSpPr>
          <p:cNvPr id="145"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ere are some suggested guidelines for using touching:</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cases of counseling socially and emotionally immature clients</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counseling people in crisis e.g. grief or trauma</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giving general emotional support</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greeting or at the end of a sessio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480"/>
            <a:ext cx="670536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What About Suicidal Client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160020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iving away prized possession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aking and discussing suicide plan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vious suicide attempts or gesture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ressions of hopelessness and helplessnes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atements that family and friends would not miss them</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dden positive behavior change following a period of depression </a:t>
            </a:r>
            <a:endParaRPr b="0" lang="en-US" sz="3200" spc="-1" strike="noStrike">
              <a:solidFill>
                <a:srgbClr val="ffffff"/>
              </a:solidFill>
              <a:latin typeface="Georgia"/>
            </a:endParaRPr>
          </a:p>
        </p:txBody>
      </p:sp>
      <p:pic>
        <p:nvPicPr>
          <p:cNvPr id="148"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What to do if a client threatens suicide</a:t>
            </a:r>
            <a:endParaRPr b="0" lang="en-US" sz="4400" spc="-1" strike="noStrike">
              <a:solidFill>
                <a:srgbClr val="ffffff"/>
              </a:solidFill>
              <a:latin typeface="Copperplate Gothic Bold"/>
            </a:endParaRPr>
          </a:p>
        </p:txBody>
      </p:sp>
      <p:sp>
        <p:nvSpPr>
          <p:cNvPr id="150"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isarm the client and remove all weapons or poisonous substanc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commend a frequency of counseling session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rrange a method for the client to call you frequently between sessions so that his or her emotional state can be monitored.</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rge the client to seek medical help and hospitalizatio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 not underestimate the power of prayer.</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99840" y="533520"/>
            <a:ext cx="6705720" cy="12189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TIALITY</a:t>
            </a:r>
            <a:endParaRPr b="0" lang="en-US" sz="4400" spc="-1" strike="noStrike">
              <a:solidFill>
                <a:srgbClr val="ffffff"/>
              </a:solidFill>
              <a:latin typeface="Copperplate Gothic Bold"/>
            </a:endParaRPr>
          </a:p>
        </p:txBody>
      </p:sp>
      <p:sp>
        <p:nvSpPr>
          <p:cNvPr id="152" name="PlaceHolder 2"/>
          <p:cNvSpPr>
            <a:spLocks noGrp="1"/>
          </p:cNvSpPr>
          <p:nvPr>
            <p:ph/>
          </p:nvPr>
        </p:nvSpPr>
        <p:spPr>
          <a:xfrm>
            <a:off x="1371600" y="1676520"/>
            <a:ext cx="7772400" cy="4495680"/>
          </a:xfrm>
          <a:prstGeom prst="rect">
            <a:avLst/>
          </a:prstGeom>
          <a:noFill/>
          <a:ln w="0">
            <a:noFill/>
          </a:ln>
        </p:spPr>
        <p:txBody>
          <a:bodyPr lIns="90000" rIns="90000" tIns="46800" bIns="46800" anchor="t">
            <a:normAutofit fontScale="96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ircumstances for breaking confidentiality:</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clients pose a danger to themselves</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the therapist believes that a client under the age of 16 has been the victim of rape, incest, child abuse, or some other crime</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the counselor determines that the client needs hospitalization</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information is made an issue in a court case</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4"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clusion</a:t>
            </a:r>
            <a:endParaRPr b="0" lang="en-US" sz="4400" spc="-1" strike="noStrike">
              <a:solidFill>
                <a:srgbClr val="ffffff"/>
              </a:solidFill>
              <a:latin typeface="Copperplate Gothic Bold"/>
            </a:endParaRPr>
          </a:p>
        </p:txBody>
      </p:sp>
      <p:sp>
        <p:nvSpPr>
          <p:cNvPr id="156" name="PlaceHolder 2"/>
          <p:cNvSpPr>
            <a:spLocks noGrp="1"/>
          </p:cNvSpPr>
          <p:nvPr>
            <p:ph/>
          </p:nvPr>
        </p:nvSpPr>
        <p:spPr>
          <a:xfrm>
            <a:off x="380520" y="2133720"/>
            <a:ext cx="7543800" cy="3581280"/>
          </a:xfrm>
          <a:prstGeom prst="rect">
            <a:avLst/>
          </a:prstGeom>
          <a:noFill/>
          <a:ln w="0">
            <a:noFill/>
          </a:ln>
        </p:spPr>
        <p:txBody>
          <a:bodyPr lIns="90000" rIns="90000" tIns="46800" bIns="46800" anchor="t">
            <a:normAutofit fontScale="91000"/>
          </a:bodyPr>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ing is a ministry</a:t>
            </a:r>
            <a:endParaRPr b="0" lang="en-US" sz="4000" spc="-1" strike="noStrike">
              <a:solidFill>
                <a:srgbClr val="ffffff"/>
              </a:solidFill>
              <a:latin typeface="Georgia"/>
            </a:endParaRPr>
          </a:p>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ors are unique</a:t>
            </a:r>
            <a:endParaRPr b="0" lang="en-US" sz="4000" spc="-1" strike="noStrike">
              <a:solidFill>
                <a:srgbClr val="ffffff"/>
              </a:solidFill>
              <a:latin typeface="Georgia"/>
            </a:endParaRPr>
          </a:p>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ors see their client as a soul to be saved</a:t>
            </a:r>
            <a:endParaRPr b="0" lang="en-US" sz="4000" spc="-1" strike="noStrike">
              <a:solidFill>
                <a:srgbClr val="ffffff"/>
              </a:solidFill>
              <a:latin typeface="Georgia"/>
            </a:endParaRPr>
          </a:p>
        </p:txBody>
      </p:sp>
      <p:pic>
        <p:nvPicPr>
          <p:cNvPr id="157"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Basic Counseling approaches</a:t>
            </a:r>
            <a:endParaRPr b="0" lang="en-US" sz="4400" spc="-1" strike="noStrike">
              <a:solidFill>
                <a:srgbClr val="ffffff"/>
              </a:solidFill>
              <a:latin typeface="Copperplate Gothic Bold"/>
            </a:endParaRPr>
          </a:p>
        </p:txBody>
      </p:sp>
      <p:sp>
        <p:nvSpPr>
          <p:cNvPr id="94" name="PlaceHolder 2"/>
          <p:cNvSpPr>
            <a:spLocks noGrp="1"/>
          </p:cNvSpPr>
          <p:nvPr>
            <p:ph/>
          </p:nvPr>
        </p:nvSpPr>
        <p:spPr>
          <a:xfrm>
            <a:off x="8377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sychoanalytic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dlerian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istential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Person-centered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Gestalt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Transactional Analysis</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Behavior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Rational-emotive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Reality Therapy</a:t>
            </a:r>
            <a:endParaRPr b="0" lang="en-US" sz="3200" spc="-1" strike="noStrike">
              <a:solidFill>
                <a:srgbClr val="ffffff"/>
              </a:solidFill>
              <a:latin typeface="Georgia"/>
            </a:endParaRPr>
          </a:p>
        </p:txBody>
      </p:sp>
      <p:pic>
        <p:nvPicPr>
          <p:cNvPr id="95"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sychoanalytic Therapy</a:t>
            </a:r>
            <a:endParaRPr b="0" lang="en-US" sz="4400" spc="-1" strike="noStrike">
              <a:solidFill>
                <a:srgbClr val="ffffff"/>
              </a:solidFill>
              <a:latin typeface="Copperplate Gothic Bold"/>
            </a:endParaRPr>
          </a:p>
        </p:txBody>
      </p:sp>
      <p:sp>
        <p:nvSpPr>
          <p:cNvPr id="97"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riginated by Sigmund Freud</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lief that behavior is influenced by unconscious motives and conflict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esses the importance of early development</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8"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Adlerian Therapy</a:t>
            </a:r>
            <a:endParaRPr b="0" lang="en-US" sz="4400" spc="-1" strike="noStrike">
              <a:solidFill>
                <a:srgbClr val="ffffff"/>
              </a:solidFill>
              <a:latin typeface="Copperplate Gothic Bold"/>
            </a:endParaRPr>
          </a:p>
        </p:txBody>
      </p:sp>
      <p:sp>
        <p:nvSpPr>
          <p:cNvPr id="100"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fontScale="96000"/>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fred Adler disagreed with Freud’s theori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Like Freud, Adler believed that the first six years influenced one’s life</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umans motivated by social urges</a:t>
            </a:r>
            <a:endParaRPr b="0" lang="en-US" sz="3600" spc="-1" strike="noStrike">
              <a:solidFill>
                <a:srgbClr val="fffff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xistential Therapy</a:t>
            </a:r>
            <a:endParaRPr b="0" lang="en-US" sz="4400" spc="-1" strike="noStrike">
              <a:solidFill>
                <a:srgbClr val="ffffff"/>
              </a:solidFill>
              <a:latin typeface="Copperplate Gothic Bold"/>
            </a:endParaRPr>
          </a:p>
        </p:txBody>
      </p:sp>
      <p:sp>
        <p:nvSpPr>
          <p:cNvPr id="102"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s view leads us to reflect and decide</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s view focuses on the nature of the human condition</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ach person’s personality is seen as unique</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One’s sense of self develops from infancy</a:t>
            </a:r>
            <a:endParaRPr b="0" lang="en-US" sz="3200" spc="-1" strike="noStrike">
              <a:solidFill>
                <a:srgbClr val="ffffff"/>
              </a:solidFill>
              <a:latin typeface="Georgia"/>
            </a:endParaRPr>
          </a:p>
        </p:txBody>
      </p:sp>
      <p:pic>
        <p:nvPicPr>
          <p:cNvPr id="103"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6854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erson-Centered Therapy</a:t>
            </a:r>
            <a:endParaRPr b="0" lang="en-US" sz="4400" spc="-1" strike="noStrike">
              <a:solidFill>
                <a:srgbClr val="ffffff"/>
              </a:solidFill>
              <a:latin typeface="Copperplate Gothic Bold"/>
            </a:endParaRPr>
          </a:p>
        </p:txBody>
      </p:sp>
      <p:sp>
        <p:nvSpPr>
          <p:cNvPr id="105" name="PlaceHolder 2"/>
          <p:cNvSpPr>
            <a:spLocks noGrp="1"/>
          </p:cNvSpPr>
          <p:nvPr>
            <p:ph/>
          </p:nvPr>
        </p:nvSpPr>
        <p:spPr>
          <a:xfrm>
            <a:off x="380520" y="1828440"/>
            <a:ext cx="8458200" cy="426708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Original founder was Carl Rogers</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mphasized how people get, share, or surrender power and control over themselves and others</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veloped non-direc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asic techniques – active listening, reflection of feelings, clarification, and “being there” for the counselee</a:t>
            </a:r>
            <a:endParaRPr b="0" lang="en-US" sz="3200" spc="-1" strike="noStrike">
              <a:solidFill>
                <a:srgbClr val="fffff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Gestalt Therapy</a:t>
            </a:r>
            <a:endParaRPr b="0" lang="en-US" sz="4400" spc="-1" strike="noStrike">
              <a:solidFill>
                <a:srgbClr val="ffffff"/>
              </a:solidFill>
              <a:latin typeface="Copperplate Gothic Bold"/>
            </a:endParaRPr>
          </a:p>
        </p:txBody>
      </p:sp>
      <p:sp>
        <p:nvSpPr>
          <p:cNvPr id="107" name="PlaceHolder 2"/>
          <p:cNvSpPr>
            <a:spLocks noGrp="1"/>
          </p:cNvSpPr>
          <p:nvPr>
            <p:ph/>
          </p:nvPr>
        </p:nvSpPr>
        <p:spPr>
          <a:xfrm>
            <a:off x="1218960" y="1447920"/>
            <a:ext cx="6933960" cy="541008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rederick S. Perls originated this theory</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esses that people must find their own way in life and accept personal responsibility</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Much focus on dealing with unfinished business from the past</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mphasis on doing and experiencing</a:t>
            </a:r>
            <a:endParaRPr b="0" lang="en-US" sz="3600" spc="-1" strike="noStrike">
              <a:solidFill>
                <a:srgbClr val="ffffff"/>
              </a:solidFill>
              <a:latin typeface="Georgia"/>
            </a:endParaRPr>
          </a:p>
        </p:txBody>
      </p:sp>
      <p:pic>
        <p:nvPicPr>
          <p:cNvPr id="108" name="" descr=""/>
          <p:cNvPicPr/>
          <p:nvPr/>
        </p:nvPicPr>
        <p:blipFill>
          <a:blip r:embed="rId2"/>
          <a:stretch/>
        </p:blipFill>
        <p:spPr>
          <a:xfrm flipH="1">
            <a:off x="-360" y="2286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85440"/>
            <a:ext cx="60958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ransactional Analysis (TA)</a:t>
            </a:r>
            <a:endParaRPr b="0" lang="en-US" sz="4400" spc="-1" strike="noStrike">
              <a:solidFill>
                <a:srgbClr val="ffffff"/>
              </a:solidFill>
              <a:latin typeface="Copperplate Gothic Bold"/>
            </a:endParaRPr>
          </a:p>
        </p:txBody>
      </p:sp>
      <p:sp>
        <p:nvSpPr>
          <p:cNvPr id="110"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8000"/>
          </a:bodyPr>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Theory founded by Eric Berne</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Focuses on decisions and contracts made by client</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asic philosophy is that the client has the potential for choice</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Key words – game, decision, life script, re-decision, stroke, discounting</a:t>
            </a:r>
            <a:endParaRPr b="0" lang="en-US" sz="3400" spc="-1" strike="noStrike">
              <a:solidFill>
                <a:srgbClr val="ffffff"/>
              </a:solidFill>
              <a:latin typeface="Georgia"/>
            </a:endParaRPr>
          </a:p>
        </p:txBody>
      </p:sp>
      <p:pic>
        <p:nvPicPr>
          <p:cNvPr id="111" name="" descr=""/>
          <p:cNvPicPr/>
          <p:nvPr/>
        </p:nvPicPr>
        <p:blipFill>
          <a:blip r:embed="rId2"/>
          <a:stretch/>
        </p:blipFill>
        <p:spPr>
          <a:xfrm>
            <a:off x="7086600" y="533520"/>
            <a:ext cx="1828800" cy="164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Melanie Strahle</cp:lastModifiedBy>
  <dcterms:modified xsi:type="dcterms:W3CDTF">2005-11-30T19:02:57Z</dcterms:modified>
  <cp:revision>25</cp:revision>
  <dc:subject/>
  <dc:title>PowerPoint Presentation</dc:title>
</cp:coreProperties>
</file>